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98821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882000" cy="67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286160" cy="334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5594400" y="0"/>
            <a:ext cx="4286160" cy="334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3252960" y="507600"/>
            <a:ext cx="3371760" cy="25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135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256"/>
                </a:solidFill>
                <a:latin typeface="Arial"/>
              </a:rPr>
              <a:t>Click to move the slide</a:t>
            </a:r>
            <a:endParaRPr b="1" i="1" lang="en-US" sz="2800" spc="-1" strike="noStrike">
              <a:solidFill>
                <a:srgbClr val="00825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1314360" y="3203640"/>
            <a:ext cx="7251840" cy="3031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0" y="6408360"/>
            <a:ext cx="4286160" cy="335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5594400" y="6408360"/>
            <a:ext cx="4286160" cy="335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0669133-6106-45F6-8FFB-961AECC945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3151080" y="217440"/>
            <a:ext cx="3919680" cy="29401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884160" y="3211200"/>
            <a:ext cx="84456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147840"/>
            <a:ext cx="9880560" cy="3596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91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7880" y="1294920"/>
            <a:ext cx="805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77880" y="3802320"/>
            <a:ext cx="805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91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7880" y="1294920"/>
            <a:ext cx="3933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07800" y="1294920"/>
            <a:ext cx="3933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7880" y="3802320"/>
            <a:ext cx="3933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07800" y="3802320"/>
            <a:ext cx="3933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91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7880" y="1294920"/>
            <a:ext cx="2594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02720" y="1294920"/>
            <a:ext cx="2594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27920" y="1294920"/>
            <a:ext cx="2594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77880" y="3802320"/>
            <a:ext cx="2594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02720" y="3802320"/>
            <a:ext cx="2594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27920" y="3802320"/>
            <a:ext cx="2594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91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77880" y="1294920"/>
            <a:ext cx="8059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fb2b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91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77880" y="1294920"/>
            <a:ext cx="805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91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77880" y="1294920"/>
            <a:ext cx="3933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7800" y="1294920"/>
            <a:ext cx="3933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91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0"/>
            <a:ext cx="7739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fb2b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91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7880" y="1294920"/>
            <a:ext cx="3933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800" y="1294920"/>
            <a:ext cx="3933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77880" y="3802320"/>
            <a:ext cx="3933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91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77880" y="1294920"/>
            <a:ext cx="8059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fb2b4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91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7880" y="1294920"/>
            <a:ext cx="3933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800" y="1294920"/>
            <a:ext cx="3933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07800" y="3802320"/>
            <a:ext cx="3933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91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7880" y="1294920"/>
            <a:ext cx="3933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07800" y="1294920"/>
            <a:ext cx="3933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77880" y="3802320"/>
            <a:ext cx="805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91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7880" y="1294920"/>
            <a:ext cx="805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77880" y="3802320"/>
            <a:ext cx="805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91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77880" y="1294920"/>
            <a:ext cx="3933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07800" y="1294920"/>
            <a:ext cx="3933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77880" y="3802320"/>
            <a:ext cx="3933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07800" y="3802320"/>
            <a:ext cx="3933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91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77880" y="1294920"/>
            <a:ext cx="2594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02720" y="1294920"/>
            <a:ext cx="2594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920" y="1294920"/>
            <a:ext cx="2594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77880" y="3802320"/>
            <a:ext cx="2594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02720" y="3802320"/>
            <a:ext cx="2594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7920" y="3802320"/>
            <a:ext cx="2594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91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77880" y="1294920"/>
            <a:ext cx="805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91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7880" y="1294920"/>
            <a:ext cx="3933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800" y="1294920"/>
            <a:ext cx="3933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91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66680" y="0"/>
            <a:ext cx="7739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fb2b4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91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7880" y="1294920"/>
            <a:ext cx="3933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07800" y="1294920"/>
            <a:ext cx="3933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77880" y="3802320"/>
            <a:ext cx="3933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91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7880" y="1294920"/>
            <a:ext cx="3933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7800" y="1294920"/>
            <a:ext cx="3933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07800" y="3802320"/>
            <a:ext cx="3933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91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7880" y="1294920"/>
            <a:ext cx="3933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07800" y="1294920"/>
            <a:ext cx="3933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77880" y="3802320"/>
            <a:ext cx="805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8686800" y="6324480"/>
            <a:ext cx="446040" cy="492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77880" y="1294920"/>
            <a:ext cx="805968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1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db2b2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601"/>
              </a:spcBef>
              <a:buClr>
                <a:srgbClr val="0066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3049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95560" indent="-2667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95560" indent="-2667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95560" indent="-2667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066680" y="0"/>
            <a:ext cx="7739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166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009166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726400" y="6443280"/>
            <a:ext cx="3700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DB2D-DF8A-495F-8953-E4D23407A6CD}" type="slidenum">
              <a:rPr b="1" lang="en-GB" sz="1200" spc="-1" strike="noStrike">
                <a:solidFill>
                  <a:srgbClr val="7fb2b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362320" y="1066680"/>
            <a:ext cx="4266720" cy="5105160"/>
            <a:chOff x="2362320" y="1066680"/>
            <a:chExt cx="4266720" cy="5105160"/>
          </a:xfrm>
        </p:grpSpPr>
        <p:sp>
          <p:nvSpPr>
            <p:cNvPr id="5" name=""/>
            <p:cNvSpPr/>
            <p:nvPr/>
          </p:nvSpPr>
          <p:spPr>
            <a:xfrm>
              <a:off x="4480920" y="1066680"/>
              <a:ext cx="2148120" cy="2207880"/>
            </a:xfrm>
            <a:custGeom>
              <a:avLst/>
              <a:gdLst/>
              <a:ahLst/>
              <a:rect l="l" t="t" r="r" b="b"/>
              <a:pathLst>
                <a:path w="1671" h="1495">
                  <a:moveTo>
                    <a:pt x="1205" y="689"/>
                  </a:moveTo>
                  <a:lnTo>
                    <a:pt x="1116" y="745"/>
                  </a:lnTo>
                  <a:lnTo>
                    <a:pt x="1038" y="791"/>
                  </a:lnTo>
                  <a:lnTo>
                    <a:pt x="968" y="828"/>
                  </a:lnTo>
                  <a:lnTo>
                    <a:pt x="903" y="863"/>
                  </a:lnTo>
                  <a:lnTo>
                    <a:pt x="837" y="900"/>
                  </a:lnTo>
                  <a:lnTo>
                    <a:pt x="764" y="940"/>
                  </a:lnTo>
                  <a:lnTo>
                    <a:pt x="682" y="989"/>
                  </a:lnTo>
                  <a:lnTo>
                    <a:pt x="586" y="1050"/>
                  </a:lnTo>
                  <a:lnTo>
                    <a:pt x="642" y="983"/>
                  </a:lnTo>
                  <a:lnTo>
                    <a:pt x="691" y="924"/>
                  </a:lnTo>
                  <a:lnTo>
                    <a:pt x="732" y="871"/>
                  </a:lnTo>
                  <a:lnTo>
                    <a:pt x="770" y="821"/>
                  </a:lnTo>
                  <a:lnTo>
                    <a:pt x="804" y="774"/>
                  </a:lnTo>
                  <a:lnTo>
                    <a:pt x="837" y="725"/>
                  </a:lnTo>
                  <a:lnTo>
                    <a:pt x="871" y="673"/>
                  </a:lnTo>
                  <a:lnTo>
                    <a:pt x="907" y="616"/>
                  </a:lnTo>
                  <a:lnTo>
                    <a:pt x="805" y="622"/>
                  </a:lnTo>
                  <a:lnTo>
                    <a:pt x="693" y="630"/>
                  </a:lnTo>
                  <a:lnTo>
                    <a:pt x="577" y="640"/>
                  </a:lnTo>
                  <a:lnTo>
                    <a:pt x="458" y="653"/>
                  </a:lnTo>
                  <a:lnTo>
                    <a:pt x="338" y="668"/>
                  </a:lnTo>
                  <a:lnTo>
                    <a:pt x="220" y="686"/>
                  </a:lnTo>
                  <a:lnTo>
                    <a:pt x="162" y="696"/>
                  </a:lnTo>
                  <a:lnTo>
                    <a:pt x="107" y="706"/>
                  </a:lnTo>
                  <a:lnTo>
                    <a:pt x="53" y="717"/>
                  </a:lnTo>
                  <a:lnTo>
                    <a:pt x="0" y="728"/>
                  </a:lnTo>
                  <a:lnTo>
                    <a:pt x="47" y="703"/>
                  </a:lnTo>
                  <a:lnTo>
                    <a:pt x="98" y="677"/>
                  </a:lnTo>
                  <a:lnTo>
                    <a:pt x="153" y="651"/>
                  </a:lnTo>
                  <a:lnTo>
                    <a:pt x="213" y="626"/>
                  </a:lnTo>
                  <a:lnTo>
                    <a:pt x="274" y="600"/>
                  </a:lnTo>
                  <a:lnTo>
                    <a:pt x="338" y="576"/>
                  </a:lnTo>
                  <a:lnTo>
                    <a:pt x="403" y="553"/>
                  </a:lnTo>
                  <a:lnTo>
                    <a:pt x="469" y="530"/>
                  </a:lnTo>
                  <a:lnTo>
                    <a:pt x="535" y="508"/>
                  </a:lnTo>
                  <a:lnTo>
                    <a:pt x="601" y="488"/>
                  </a:lnTo>
                  <a:lnTo>
                    <a:pt x="665" y="470"/>
                  </a:lnTo>
                  <a:lnTo>
                    <a:pt x="727" y="453"/>
                  </a:lnTo>
                  <a:lnTo>
                    <a:pt x="787" y="438"/>
                  </a:lnTo>
                  <a:lnTo>
                    <a:pt x="844" y="425"/>
                  </a:lnTo>
                  <a:lnTo>
                    <a:pt x="898" y="415"/>
                  </a:lnTo>
                  <a:lnTo>
                    <a:pt x="946" y="405"/>
                  </a:lnTo>
                  <a:lnTo>
                    <a:pt x="939" y="398"/>
                  </a:lnTo>
                  <a:lnTo>
                    <a:pt x="930" y="389"/>
                  </a:lnTo>
                  <a:lnTo>
                    <a:pt x="920" y="378"/>
                  </a:lnTo>
                  <a:lnTo>
                    <a:pt x="907" y="367"/>
                  </a:lnTo>
                  <a:lnTo>
                    <a:pt x="876" y="341"/>
                  </a:lnTo>
                  <a:lnTo>
                    <a:pt x="839" y="313"/>
                  </a:lnTo>
                  <a:lnTo>
                    <a:pt x="797" y="284"/>
                  </a:lnTo>
                  <a:lnTo>
                    <a:pt x="752" y="253"/>
                  </a:lnTo>
                  <a:lnTo>
                    <a:pt x="702" y="223"/>
                  </a:lnTo>
                  <a:lnTo>
                    <a:pt x="651" y="191"/>
                  </a:lnTo>
                  <a:lnTo>
                    <a:pt x="549" y="128"/>
                  </a:lnTo>
                  <a:lnTo>
                    <a:pt x="452" y="72"/>
                  </a:lnTo>
                  <a:lnTo>
                    <a:pt x="410" y="49"/>
                  </a:lnTo>
                  <a:lnTo>
                    <a:pt x="372" y="28"/>
                  </a:lnTo>
                  <a:lnTo>
                    <a:pt x="339" y="11"/>
                  </a:lnTo>
                  <a:lnTo>
                    <a:pt x="314" y="0"/>
                  </a:lnTo>
                  <a:lnTo>
                    <a:pt x="383" y="6"/>
                  </a:lnTo>
                  <a:lnTo>
                    <a:pt x="454" y="16"/>
                  </a:lnTo>
                  <a:lnTo>
                    <a:pt x="525" y="28"/>
                  </a:lnTo>
                  <a:lnTo>
                    <a:pt x="597" y="42"/>
                  </a:lnTo>
                  <a:lnTo>
                    <a:pt x="669" y="59"/>
                  </a:lnTo>
                  <a:lnTo>
                    <a:pt x="742" y="77"/>
                  </a:lnTo>
                  <a:lnTo>
                    <a:pt x="812" y="97"/>
                  </a:lnTo>
                  <a:lnTo>
                    <a:pt x="882" y="117"/>
                  </a:lnTo>
                  <a:lnTo>
                    <a:pt x="950" y="140"/>
                  </a:lnTo>
                  <a:lnTo>
                    <a:pt x="1017" y="164"/>
                  </a:lnTo>
                  <a:lnTo>
                    <a:pt x="1079" y="189"/>
                  </a:lnTo>
                  <a:lnTo>
                    <a:pt x="1140" y="214"/>
                  </a:lnTo>
                  <a:lnTo>
                    <a:pt x="1195" y="240"/>
                  </a:lnTo>
                  <a:lnTo>
                    <a:pt x="1248" y="267"/>
                  </a:lnTo>
                  <a:lnTo>
                    <a:pt x="1296" y="293"/>
                  </a:lnTo>
                  <a:lnTo>
                    <a:pt x="1340" y="321"/>
                  </a:lnTo>
                  <a:lnTo>
                    <a:pt x="1372" y="312"/>
                  </a:lnTo>
                  <a:lnTo>
                    <a:pt x="1405" y="304"/>
                  </a:lnTo>
                  <a:lnTo>
                    <a:pt x="1440" y="298"/>
                  </a:lnTo>
                  <a:lnTo>
                    <a:pt x="1479" y="293"/>
                  </a:lnTo>
                  <a:lnTo>
                    <a:pt x="1520" y="289"/>
                  </a:lnTo>
                  <a:lnTo>
                    <a:pt x="1565" y="284"/>
                  </a:lnTo>
                  <a:lnTo>
                    <a:pt x="1615" y="280"/>
                  </a:lnTo>
                  <a:lnTo>
                    <a:pt x="1671" y="275"/>
                  </a:lnTo>
                  <a:lnTo>
                    <a:pt x="1657" y="301"/>
                  </a:lnTo>
                  <a:lnTo>
                    <a:pt x="1644" y="327"/>
                  </a:lnTo>
                  <a:lnTo>
                    <a:pt x="1632" y="352"/>
                  </a:lnTo>
                  <a:lnTo>
                    <a:pt x="1616" y="376"/>
                  </a:lnTo>
                  <a:lnTo>
                    <a:pt x="1606" y="389"/>
                  </a:lnTo>
                  <a:lnTo>
                    <a:pt x="1595" y="402"/>
                  </a:lnTo>
                  <a:lnTo>
                    <a:pt x="1581" y="418"/>
                  </a:lnTo>
                  <a:lnTo>
                    <a:pt x="1565" y="432"/>
                  </a:lnTo>
                  <a:lnTo>
                    <a:pt x="1547" y="448"/>
                  </a:lnTo>
                  <a:lnTo>
                    <a:pt x="1525" y="465"/>
                  </a:lnTo>
                  <a:lnTo>
                    <a:pt x="1501" y="484"/>
                  </a:lnTo>
                  <a:lnTo>
                    <a:pt x="1474" y="504"/>
                  </a:lnTo>
                  <a:lnTo>
                    <a:pt x="1479" y="517"/>
                  </a:lnTo>
                  <a:lnTo>
                    <a:pt x="1481" y="534"/>
                  </a:lnTo>
                  <a:lnTo>
                    <a:pt x="1483" y="553"/>
                  </a:lnTo>
                  <a:lnTo>
                    <a:pt x="1484" y="576"/>
                  </a:lnTo>
                  <a:lnTo>
                    <a:pt x="1484" y="626"/>
                  </a:lnTo>
                  <a:lnTo>
                    <a:pt x="1481" y="686"/>
                  </a:lnTo>
                  <a:lnTo>
                    <a:pt x="1477" y="752"/>
                  </a:lnTo>
                  <a:lnTo>
                    <a:pt x="1470" y="824"/>
                  </a:lnTo>
                  <a:lnTo>
                    <a:pt x="1462" y="900"/>
                  </a:lnTo>
                  <a:lnTo>
                    <a:pt x="1450" y="978"/>
                  </a:lnTo>
                  <a:lnTo>
                    <a:pt x="1437" y="1058"/>
                  </a:lnTo>
                  <a:lnTo>
                    <a:pt x="1425" y="1135"/>
                  </a:lnTo>
                  <a:lnTo>
                    <a:pt x="1411" y="1210"/>
                  </a:lnTo>
                  <a:lnTo>
                    <a:pt x="1395" y="1282"/>
                  </a:lnTo>
                  <a:lnTo>
                    <a:pt x="1379" y="1348"/>
                  </a:lnTo>
                  <a:lnTo>
                    <a:pt x="1362" y="1406"/>
                  </a:lnTo>
                  <a:lnTo>
                    <a:pt x="1355" y="1432"/>
                  </a:lnTo>
                  <a:lnTo>
                    <a:pt x="1347" y="1455"/>
                  </a:lnTo>
                  <a:lnTo>
                    <a:pt x="1338" y="1477"/>
                  </a:lnTo>
                  <a:lnTo>
                    <a:pt x="1331" y="1495"/>
                  </a:lnTo>
                  <a:lnTo>
                    <a:pt x="1328" y="1385"/>
                  </a:lnTo>
                  <a:lnTo>
                    <a:pt x="1323" y="1271"/>
                  </a:lnTo>
                  <a:lnTo>
                    <a:pt x="1320" y="1213"/>
                  </a:lnTo>
                  <a:lnTo>
                    <a:pt x="1316" y="1156"/>
                  </a:lnTo>
                  <a:lnTo>
                    <a:pt x="1310" y="1099"/>
                  </a:lnTo>
                  <a:lnTo>
                    <a:pt x="1303" y="1044"/>
                  </a:lnTo>
                  <a:lnTo>
                    <a:pt x="1296" y="990"/>
                  </a:lnTo>
                  <a:lnTo>
                    <a:pt x="1287" y="938"/>
                  </a:lnTo>
                  <a:lnTo>
                    <a:pt x="1277" y="889"/>
                  </a:lnTo>
                  <a:lnTo>
                    <a:pt x="1266" y="841"/>
                  </a:lnTo>
                  <a:lnTo>
                    <a:pt x="1253" y="798"/>
                  </a:lnTo>
                  <a:lnTo>
                    <a:pt x="1239" y="758"/>
                  </a:lnTo>
                  <a:lnTo>
                    <a:pt x="1231" y="739"/>
                  </a:lnTo>
                  <a:lnTo>
                    <a:pt x="1223" y="722"/>
                  </a:lnTo>
                  <a:lnTo>
                    <a:pt x="1215" y="705"/>
                  </a:lnTo>
                  <a:lnTo>
                    <a:pt x="1205" y="689"/>
                  </a:lnTo>
                  <a:close/>
                </a:path>
              </a:pathLst>
            </a:custGeom>
            <a:solidFill>
              <a:srgbClr val="cfece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362320" y="4210920"/>
              <a:ext cx="1230120" cy="1821240"/>
            </a:xfrm>
            <a:custGeom>
              <a:avLst/>
              <a:gdLst/>
              <a:ahLst/>
              <a:rect l="l" t="t" r="r" b="b"/>
              <a:pathLst>
                <a:path w="957" h="1233">
                  <a:moveTo>
                    <a:pt x="957" y="1018"/>
                  </a:moveTo>
                  <a:lnTo>
                    <a:pt x="903" y="995"/>
                  </a:lnTo>
                  <a:lnTo>
                    <a:pt x="852" y="970"/>
                  </a:lnTo>
                  <a:lnTo>
                    <a:pt x="828" y="958"/>
                  </a:lnTo>
                  <a:lnTo>
                    <a:pt x="804" y="944"/>
                  </a:lnTo>
                  <a:lnTo>
                    <a:pt x="781" y="930"/>
                  </a:lnTo>
                  <a:lnTo>
                    <a:pt x="758" y="915"/>
                  </a:lnTo>
                  <a:lnTo>
                    <a:pt x="736" y="900"/>
                  </a:lnTo>
                  <a:lnTo>
                    <a:pt x="713" y="884"/>
                  </a:lnTo>
                  <a:lnTo>
                    <a:pt x="692" y="867"/>
                  </a:lnTo>
                  <a:lnTo>
                    <a:pt x="669" y="849"/>
                  </a:lnTo>
                  <a:lnTo>
                    <a:pt x="627" y="811"/>
                  </a:lnTo>
                  <a:lnTo>
                    <a:pt x="583" y="769"/>
                  </a:lnTo>
                  <a:lnTo>
                    <a:pt x="595" y="731"/>
                  </a:lnTo>
                  <a:lnTo>
                    <a:pt x="610" y="694"/>
                  </a:lnTo>
                  <a:lnTo>
                    <a:pt x="625" y="657"/>
                  </a:lnTo>
                  <a:lnTo>
                    <a:pt x="642" y="622"/>
                  </a:lnTo>
                  <a:lnTo>
                    <a:pt x="659" y="586"/>
                  </a:lnTo>
                  <a:lnTo>
                    <a:pt x="679" y="551"/>
                  </a:lnTo>
                  <a:lnTo>
                    <a:pt x="700" y="514"/>
                  </a:lnTo>
                  <a:lnTo>
                    <a:pt x="724" y="476"/>
                  </a:lnTo>
                  <a:lnTo>
                    <a:pt x="680" y="482"/>
                  </a:lnTo>
                  <a:lnTo>
                    <a:pt x="638" y="490"/>
                  </a:lnTo>
                  <a:lnTo>
                    <a:pt x="598" y="496"/>
                  </a:lnTo>
                  <a:lnTo>
                    <a:pt x="560" y="502"/>
                  </a:lnTo>
                  <a:lnTo>
                    <a:pt x="523" y="508"/>
                  </a:lnTo>
                  <a:lnTo>
                    <a:pt x="486" y="516"/>
                  </a:lnTo>
                  <a:lnTo>
                    <a:pt x="448" y="524"/>
                  </a:lnTo>
                  <a:lnTo>
                    <a:pt x="410" y="531"/>
                  </a:lnTo>
                  <a:lnTo>
                    <a:pt x="394" y="501"/>
                  </a:lnTo>
                  <a:lnTo>
                    <a:pt x="380" y="471"/>
                  </a:lnTo>
                  <a:lnTo>
                    <a:pt x="367" y="441"/>
                  </a:lnTo>
                  <a:lnTo>
                    <a:pt x="354" y="410"/>
                  </a:lnTo>
                  <a:lnTo>
                    <a:pt x="342" y="379"/>
                  </a:lnTo>
                  <a:lnTo>
                    <a:pt x="332" y="349"/>
                  </a:lnTo>
                  <a:lnTo>
                    <a:pt x="320" y="318"/>
                  </a:lnTo>
                  <a:lnTo>
                    <a:pt x="310" y="286"/>
                  </a:lnTo>
                  <a:lnTo>
                    <a:pt x="292" y="220"/>
                  </a:lnTo>
                  <a:lnTo>
                    <a:pt x="275" y="151"/>
                  </a:lnTo>
                  <a:lnTo>
                    <a:pt x="259" y="78"/>
                  </a:lnTo>
                  <a:lnTo>
                    <a:pt x="242" y="0"/>
                  </a:lnTo>
                  <a:lnTo>
                    <a:pt x="235" y="83"/>
                  </a:lnTo>
                  <a:lnTo>
                    <a:pt x="228" y="160"/>
                  </a:lnTo>
                  <a:lnTo>
                    <a:pt x="224" y="233"/>
                  </a:lnTo>
                  <a:lnTo>
                    <a:pt x="223" y="304"/>
                  </a:lnTo>
                  <a:lnTo>
                    <a:pt x="223" y="372"/>
                  </a:lnTo>
                  <a:lnTo>
                    <a:pt x="225" y="439"/>
                  </a:lnTo>
                  <a:lnTo>
                    <a:pt x="228" y="471"/>
                  </a:lnTo>
                  <a:lnTo>
                    <a:pt x="233" y="505"/>
                  </a:lnTo>
                  <a:lnTo>
                    <a:pt x="237" y="539"/>
                  </a:lnTo>
                  <a:lnTo>
                    <a:pt x="241" y="573"/>
                  </a:lnTo>
                  <a:lnTo>
                    <a:pt x="207" y="583"/>
                  </a:lnTo>
                  <a:lnTo>
                    <a:pt x="174" y="594"/>
                  </a:lnTo>
                  <a:lnTo>
                    <a:pt x="143" y="605"/>
                  </a:lnTo>
                  <a:lnTo>
                    <a:pt x="113" y="616"/>
                  </a:lnTo>
                  <a:lnTo>
                    <a:pt x="85" y="626"/>
                  </a:lnTo>
                  <a:lnTo>
                    <a:pt x="57" y="639"/>
                  </a:lnTo>
                  <a:lnTo>
                    <a:pt x="28" y="651"/>
                  </a:lnTo>
                  <a:lnTo>
                    <a:pt x="0" y="665"/>
                  </a:lnTo>
                  <a:lnTo>
                    <a:pt x="40" y="691"/>
                  </a:lnTo>
                  <a:lnTo>
                    <a:pt x="78" y="717"/>
                  </a:lnTo>
                  <a:lnTo>
                    <a:pt x="118" y="742"/>
                  </a:lnTo>
                  <a:lnTo>
                    <a:pt x="156" y="766"/>
                  </a:lnTo>
                  <a:lnTo>
                    <a:pt x="194" y="789"/>
                  </a:lnTo>
                  <a:lnTo>
                    <a:pt x="235" y="811"/>
                  </a:lnTo>
                  <a:lnTo>
                    <a:pt x="278" y="834"/>
                  </a:lnTo>
                  <a:lnTo>
                    <a:pt x="322" y="857"/>
                  </a:lnTo>
                  <a:lnTo>
                    <a:pt x="347" y="912"/>
                  </a:lnTo>
                  <a:lnTo>
                    <a:pt x="373" y="964"/>
                  </a:lnTo>
                  <a:lnTo>
                    <a:pt x="400" y="1012"/>
                  </a:lnTo>
                  <a:lnTo>
                    <a:pt x="428" y="1058"/>
                  </a:lnTo>
                  <a:lnTo>
                    <a:pt x="458" y="1102"/>
                  </a:lnTo>
                  <a:lnTo>
                    <a:pt x="492" y="1145"/>
                  </a:lnTo>
                  <a:lnTo>
                    <a:pt x="527" y="1190"/>
                  </a:lnTo>
                  <a:lnTo>
                    <a:pt x="567" y="1233"/>
                  </a:lnTo>
                  <a:lnTo>
                    <a:pt x="558" y="1196"/>
                  </a:lnTo>
                  <a:lnTo>
                    <a:pt x="551" y="1161"/>
                  </a:lnTo>
                  <a:lnTo>
                    <a:pt x="546" y="1125"/>
                  </a:lnTo>
                  <a:lnTo>
                    <a:pt x="543" y="1091"/>
                  </a:lnTo>
                  <a:lnTo>
                    <a:pt x="540" y="1056"/>
                  </a:lnTo>
                  <a:lnTo>
                    <a:pt x="540" y="1021"/>
                  </a:lnTo>
                  <a:lnTo>
                    <a:pt x="541" y="986"/>
                  </a:lnTo>
                  <a:lnTo>
                    <a:pt x="544" y="947"/>
                  </a:lnTo>
                  <a:lnTo>
                    <a:pt x="595" y="963"/>
                  </a:lnTo>
                  <a:lnTo>
                    <a:pt x="645" y="975"/>
                  </a:lnTo>
                  <a:lnTo>
                    <a:pt x="695" y="987"/>
                  </a:lnTo>
                  <a:lnTo>
                    <a:pt x="744" y="996"/>
                  </a:lnTo>
                  <a:lnTo>
                    <a:pt x="794" y="1004"/>
                  </a:lnTo>
                  <a:lnTo>
                    <a:pt x="846" y="1010"/>
                  </a:lnTo>
                  <a:lnTo>
                    <a:pt x="900" y="1015"/>
                  </a:lnTo>
                  <a:lnTo>
                    <a:pt x="957" y="1018"/>
                  </a:lnTo>
                  <a:close/>
                </a:path>
              </a:pathLst>
            </a:custGeom>
            <a:solidFill>
              <a:srgbClr val="cfece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723400" y="2350080"/>
              <a:ext cx="2109600" cy="1620000"/>
            </a:xfrm>
            <a:custGeom>
              <a:avLst/>
              <a:gdLst/>
              <a:ahLst/>
              <a:rect l="l" t="t" r="r" b="b"/>
              <a:pathLst>
                <a:path w="1641" h="1097">
                  <a:moveTo>
                    <a:pt x="1064" y="0"/>
                  </a:moveTo>
                  <a:lnTo>
                    <a:pt x="1046" y="26"/>
                  </a:lnTo>
                  <a:lnTo>
                    <a:pt x="1027" y="57"/>
                  </a:lnTo>
                  <a:lnTo>
                    <a:pt x="1010" y="91"/>
                  </a:lnTo>
                  <a:lnTo>
                    <a:pt x="993" y="124"/>
                  </a:lnTo>
                  <a:lnTo>
                    <a:pt x="979" y="158"/>
                  </a:lnTo>
                  <a:lnTo>
                    <a:pt x="966" y="190"/>
                  </a:lnTo>
                  <a:lnTo>
                    <a:pt x="956" y="218"/>
                  </a:lnTo>
                  <a:lnTo>
                    <a:pt x="949" y="242"/>
                  </a:lnTo>
                  <a:lnTo>
                    <a:pt x="985" y="249"/>
                  </a:lnTo>
                  <a:lnTo>
                    <a:pt x="1020" y="255"/>
                  </a:lnTo>
                  <a:lnTo>
                    <a:pt x="1054" y="262"/>
                  </a:lnTo>
                  <a:lnTo>
                    <a:pt x="1088" y="270"/>
                  </a:lnTo>
                  <a:lnTo>
                    <a:pt x="1155" y="289"/>
                  </a:lnTo>
                  <a:lnTo>
                    <a:pt x="1219" y="308"/>
                  </a:lnTo>
                  <a:lnTo>
                    <a:pt x="1279" y="330"/>
                  </a:lnTo>
                  <a:lnTo>
                    <a:pt x="1336" y="353"/>
                  </a:lnTo>
                  <a:lnTo>
                    <a:pt x="1389" y="376"/>
                  </a:lnTo>
                  <a:lnTo>
                    <a:pt x="1438" y="399"/>
                  </a:lnTo>
                  <a:lnTo>
                    <a:pt x="1482" y="422"/>
                  </a:lnTo>
                  <a:lnTo>
                    <a:pt x="1522" y="442"/>
                  </a:lnTo>
                  <a:lnTo>
                    <a:pt x="1557" y="462"/>
                  </a:lnTo>
                  <a:lnTo>
                    <a:pt x="1586" y="479"/>
                  </a:lnTo>
                  <a:lnTo>
                    <a:pt x="1627" y="503"/>
                  </a:lnTo>
                  <a:lnTo>
                    <a:pt x="1641" y="513"/>
                  </a:lnTo>
                  <a:lnTo>
                    <a:pt x="1579" y="502"/>
                  </a:lnTo>
                  <a:lnTo>
                    <a:pt x="1522" y="491"/>
                  </a:lnTo>
                  <a:lnTo>
                    <a:pt x="1467" y="483"/>
                  </a:lnTo>
                  <a:lnTo>
                    <a:pt x="1416" y="477"/>
                  </a:lnTo>
                  <a:lnTo>
                    <a:pt x="1369" y="471"/>
                  </a:lnTo>
                  <a:lnTo>
                    <a:pt x="1323" y="467"/>
                  </a:lnTo>
                  <a:lnTo>
                    <a:pt x="1281" y="464"/>
                  </a:lnTo>
                  <a:lnTo>
                    <a:pt x="1241" y="462"/>
                  </a:lnTo>
                  <a:lnTo>
                    <a:pt x="1170" y="460"/>
                  </a:lnTo>
                  <a:lnTo>
                    <a:pt x="1108" y="460"/>
                  </a:lnTo>
                  <a:lnTo>
                    <a:pt x="1051" y="464"/>
                  </a:lnTo>
                  <a:lnTo>
                    <a:pt x="1002" y="468"/>
                  </a:lnTo>
                  <a:lnTo>
                    <a:pt x="961" y="473"/>
                  </a:lnTo>
                  <a:lnTo>
                    <a:pt x="927" y="479"/>
                  </a:lnTo>
                  <a:lnTo>
                    <a:pt x="900" y="483"/>
                  </a:lnTo>
                  <a:lnTo>
                    <a:pt x="881" y="488"/>
                  </a:lnTo>
                  <a:lnTo>
                    <a:pt x="867" y="491"/>
                  </a:lnTo>
                  <a:lnTo>
                    <a:pt x="859" y="494"/>
                  </a:lnTo>
                  <a:lnTo>
                    <a:pt x="854" y="497"/>
                  </a:lnTo>
                  <a:lnTo>
                    <a:pt x="853" y="497"/>
                  </a:lnTo>
                  <a:lnTo>
                    <a:pt x="836" y="539"/>
                  </a:lnTo>
                  <a:lnTo>
                    <a:pt x="820" y="583"/>
                  </a:lnTo>
                  <a:lnTo>
                    <a:pt x="806" y="631"/>
                  </a:lnTo>
                  <a:lnTo>
                    <a:pt x="792" y="678"/>
                  </a:lnTo>
                  <a:lnTo>
                    <a:pt x="779" y="728"/>
                  </a:lnTo>
                  <a:lnTo>
                    <a:pt x="766" y="775"/>
                  </a:lnTo>
                  <a:lnTo>
                    <a:pt x="757" y="823"/>
                  </a:lnTo>
                  <a:lnTo>
                    <a:pt x="747" y="869"/>
                  </a:lnTo>
                  <a:lnTo>
                    <a:pt x="730" y="952"/>
                  </a:lnTo>
                  <a:lnTo>
                    <a:pt x="718" y="1019"/>
                  </a:lnTo>
                  <a:lnTo>
                    <a:pt x="711" y="1064"/>
                  </a:lnTo>
                  <a:lnTo>
                    <a:pt x="708" y="1081"/>
                  </a:lnTo>
                  <a:lnTo>
                    <a:pt x="684" y="1015"/>
                  </a:lnTo>
                  <a:lnTo>
                    <a:pt x="659" y="938"/>
                  </a:lnTo>
                  <a:lnTo>
                    <a:pt x="635" y="860"/>
                  </a:lnTo>
                  <a:lnTo>
                    <a:pt x="611" y="781"/>
                  </a:lnTo>
                  <a:lnTo>
                    <a:pt x="589" y="712"/>
                  </a:lnTo>
                  <a:lnTo>
                    <a:pt x="574" y="654"/>
                  </a:lnTo>
                  <a:lnTo>
                    <a:pt x="562" y="615"/>
                  </a:lnTo>
                  <a:lnTo>
                    <a:pt x="558" y="602"/>
                  </a:lnTo>
                  <a:lnTo>
                    <a:pt x="524" y="623"/>
                  </a:lnTo>
                  <a:lnTo>
                    <a:pt x="486" y="651"/>
                  </a:lnTo>
                  <a:lnTo>
                    <a:pt x="445" y="685"/>
                  </a:lnTo>
                  <a:lnTo>
                    <a:pt x="399" y="721"/>
                  </a:lnTo>
                  <a:lnTo>
                    <a:pt x="354" y="760"/>
                  </a:lnTo>
                  <a:lnTo>
                    <a:pt x="307" y="801"/>
                  </a:lnTo>
                  <a:lnTo>
                    <a:pt x="262" y="844"/>
                  </a:lnTo>
                  <a:lnTo>
                    <a:pt x="217" y="886"/>
                  </a:lnTo>
                  <a:lnTo>
                    <a:pt x="133" y="965"/>
                  </a:lnTo>
                  <a:lnTo>
                    <a:pt x="63" y="1033"/>
                  </a:lnTo>
                  <a:lnTo>
                    <a:pt x="17" y="1079"/>
                  </a:lnTo>
                  <a:lnTo>
                    <a:pt x="0" y="1097"/>
                  </a:lnTo>
                  <a:lnTo>
                    <a:pt x="41" y="1013"/>
                  </a:lnTo>
                  <a:lnTo>
                    <a:pt x="80" y="935"/>
                  </a:lnTo>
                  <a:lnTo>
                    <a:pt x="120" y="863"/>
                  </a:lnTo>
                  <a:lnTo>
                    <a:pt x="158" y="795"/>
                  </a:lnTo>
                  <a:lnTo>
                    <a:pt x="195" y="734"/>
                  </a:lnTo>
                  <a:lnTo>
                    <a:pt x="231" y="678"/>
                  </a:lnTo>
                  <a:lnTo>
                    <a:pt x="265" y="629"/>
                  </a:lnTo>
                  <a:lnTo>
                    <a:pt x="296" y="585"/>
                  </a:lnTo>
                  <a:lnTo>
                    <a:pt x="326" y="545"/>
                  </a:lnTo>
                  <a:lnTo>
                    <a:pt x="351" y="511"/>
                  </a:lnTo>
                  <a:lnTo>
                    <a:pt x="374" y="483"/>
                  </a:lnTo>
                  <a:lnTo>
                    <a:pt x="394" y="460"/>
                  </a:lnTo>
                  <a:lnTo>
                    <a:pt x="422" y="430"/>
                  </a:lnTo>
                  <a:lnTo>
                    <a:pt x="431" y="421"/>
                  </a:lnTo>
                  <a:lnTo>
                    <a:pt x="416" y="405"/>
                  </a:lnTo>
                  <a:lnTo>
                    <a:pt x="398" y="391"/>
                  </a:lnTo>
                  <a:lnTo>
                    <a:pt x="378" y="379"/>
                  </a:lnTo>
                  <a:lnTo>
                    <a:pt x="355" y="367"/>
                  </a:lnTo>
                  <a:lnTo>
                    <a:pt x="331" y="356"/>
                  </a:lnTo>
                  <a:lnTo>
                    <a:pt x="306" y="345"/>
                  </a:lnTo>
                  <a:lnTo>
                    <a:pt x="279" y="336"/>
                  </a:lnTo>
                  <a:lnTo>
                    <a:pt x="251" y="328"/>
                  </a:lnTo>
                  <a:lnTo>
                    <a:pt x="221" y="321"/>
                  </a:lnTo>
                  <a:lnTo>
                    <a:pt x="192" y="313"/>
                  </a:lnTo>
                  <a:lnTo>
                    <a:pt x="163" y="308"/>
                  </a:lnTo>
                  <a:lnTo>
                    <a:pt x="133" y="304"/>
                  </a:lnTo>
                  <a:lnTo>
                    <a:pt x="73" y="296"/>
                  </a:lnTo>
                  <a:lnTo>
                    <a:pt x="18" y="292"/>
                  </a:lnTo>
                  <a:lnTo>
                    <a:pt x="51" y="279"/>
                  </a:lnTo>
                  <a:lnTo>
                    <a:pt x="93" y="266"/>
                  </a:lnTo>
                  <a:lnTo>
                    <a:pt x="143" y="253"/>
                  </a:lnTo>
                  <a:lnTo>
                    <a:pt x="197" y="242"/>
                  </a:lnTo>
                  <a:lnTo>
                    <a:pt x="255" y="232"/>
                  </a:lnTo>
                  <a:lnTo>
                    <a:pt x="314" y="223"/>
                  </a:lnTo>
                  <a:lnTo>
                    <a:pt x="372" y="216"/>
                  </a:lnTo>
                  <a:lnTo>
                    <a:pt x="429" y="213"/>
                  </a:lnTo>
                  <a:lnTo>
                    <a:pt x="482" y="212"/>
                  </a:lnTo>
                  <a:lnTo>
                    <a:pt x="528" y="212"/>
                  </a:lnTo>
                  <a:lnTo>
                    <a:pt x="568" y="212"/>
                  </a:lnTo>
                  <a:lnTo>
                    <a:pt x="602" y="213"/>
                  </a:lnTo>
                  <a:lnTo>
                    <a:pt x="629" y="215"/>
                  </a:lnTo>
                  <a:lnTo>
                    <a:pt x="649" y="216"/>
                  </a:lnTo>
                  <a:lnTo>
                    <a:pt x="660" y="216"/>
                  </a:lnTo>
                  <a:lnTo>
                    <a:pt x="664" y="218"/>
                  </a:lnTo>
                  <a:lnTo>
                    <a:pt x="690" y="196"/>
                  </a:lnTo>
                  <a:lnTo>
                    <a:pt x="717" y="176"/>
                  </a:lnTo>
                  <a:lnTo>
                    <a:pt x="744" y="157"/>
                  </a:lnTo>
                  <a:lnTo>
                    <a:pt x="772" y="138"/>
                  </a:lnTo>
                  <a:lnTo>
                    <a:pt x="802" y="120"/>
                  </a:lnTo>
                  <a:lnTo>
                    <a:pt x="830" y="103"/>
                  </a:lnTo>
                  <a:lnTo>
                    <a:pt x="859" y="86"/>
                  </a:lnTo>
                  <a:lnTo>
                    <a:pt x="887" y="71"/>
                  </a:lnTo>
                  <a:lnTo>
                    <a:pt x="941" y="44"/>
                  </a:lnTo>
                  <a:lnTo>
                    <a:pt x="990" y="23"/>
                  </a:lnTo>
                  <a:lnTo>
                    <a:pt x="1012" y="14"/>
                  </a:lnTo>
                  <a:lnTo>
                    <a:pt x="1031" y="8"/>
                  </a:lnTo>
                  <a:lnTo>
                    <a:pt x="1048" y="3"/>
                  </a:lnTo>
                  <a:lnTo>
                    <a:pt x="1064" y="0"/>
                  </a:lnTo>
                  <a:close/>
                </a:path>
              </a:pathLst>
            </a:custGeom>
            <a:solidFill>
              <a:srgbClr val="cfece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894480" y="5258160"/>
              <a:ext cx="1148040" cy="913680"/>
            </a:xfrm>
            <a:custGeom>
              <a:avLst/>
              <a:gdLst/>
              <a:ahLst/>
              <a:rect l="l" t="t" r="r" b="b"/>
              <a:pathLst>
                <a:path w="893" h="619">
                  <a:moveTo>
                    <a:pt x="558" y="22"/>
                  </a:moveTo>
                  <a:lnTo>
                    <a:pt x="534" y="57"/>
                  </a:lnTo>
                  <a:lnTo>
                    <a:pt x="509" y="92"/>
                  </a:lnTo>
                  <a:lnTo>
                    <a:pt x="485" y="126"/>
                  </a:lnTo>
                  <a:lnTo>
                    <a:pt x="461" y="158"/>
                  </a:lnTo>
                  <a:lnTo>
                    <a:pt x="437" y="191"/>
                  </a:lnTo>
                  <a:lnTo>
                    <a:pt x="411" y="223"/>
                  </a:lnTo>
                  <a:lnTo>
                    <a:pt x="386" y="257"/>
                  </a:lnTo>
                  <a:lnTo>
                    <a:pt x="357" y="290"/>
                  </a:lnTo>
                  <a:lnTo>
                    <a:pt x="310" y="303"/>
                  </a:lnTo>
                  <a:lnTo>
                    <a:pt x="265" y="315"/>
                  </a:lnTo>
                  <a:lnTo>
                    <a:pt x="221" y="323"/>
                  </a:lnTo>
                  <a:lnTo>
                    <a:pt x="177" y="330"/>
                  </a:lnTo>
                  <a:lnTo>
                    <a:pt x="135" y="336"/>
                  </a:lnTo>
                  <a:lnTo>
                    <a:pt x="91" y="340"/>
                  </a:lnTo>
                  <a:lnTo>
                    <a:pt x="47" y="343"/>
                  </a:lnTo>
                  <a:lnTo>
                    <a:pt x="0" y="343"/>
                  </a:lnTo>
                  <a:lnTo>
                    <a:pt x="28" y="358"/>
                  </a:lnTo>
                  <a:lnTo>
                    <a:pt x="58" y="372"/>
                  </a:lnTo>
                  <a:lnTo>
                    <a:pt x="86" y="386"/>
                  </a:lnTo>
                  <a:lnTo>
                    <a:pt x="115" y="396"/>
                  </a:lnTo>
                  <a:lnTo>
                    <a:pt x="143" y="406"/>
                  </a:lnTo>
                  <a:lnTo>
                    <a:pt x="173" y="415"/>
                  </a:lnTo>
                  <a:lnTo>
                    <a:pt x="203" y="422"/>
                  </a:lnTo>
                  <a:lnTo>
                    <a:pt x="232" y="430"/>
                  </a:lnTo>
                  <a:lnTo>
                    <a:pt x="203" y="459"/>
                  </a:lnTo>
                  <a:lnTo>
                    <a:pt x="174" y="485"/>
                  </a:lnTo>
                  <a:lnTo>
                    <a:pt x="146" y="511"/>
                  </a:lnTo>
                  <a:lnTo>
                    <a:pt x="118" y="534"/>
                  </a:lnTo>
                  <a:lnTo>
                    <a:pt x="91" y="557"/>
                  </a:lnTo>
                  <a:lnTo>
                    <a:pt x="62" y="579"/>
                  </a:lnTo>
                  <a:lnTo>
                    <a:pt x="34" y="599"/>
                  </a:lnTo>
                  <a:lnTo>
                    <a:pt x="6" y="619"/>
                  </a:lnTo>
                  <a:lnTo>
                    <a:pt x="57" y="605"/>
                  </a:lnTo>
                  <a:lnTo>
                    <a:pt x="111" y="590"/>
                  </a:lnTo>
                  <a:lnTo>
                    <a:pt x="166" y="570"/>
                  </a:lnTo>
                  <a:lnTo>
                    <a:pt x="223" y="550"/>
                  </a:lnTo>
                  <a:lnTo>
                    <a:pt x="279" y="527"/>
                  </a:lnTo>
                  <a:lnTo>
                    <a:pt x="334" y="501"/>
                  </a:lnTo>
                  <a:lnTo>
                    <a:pt x="361" y="487"/>
                  </a:lnTo>
                  <a:lnTo>
                    <a:pt x="388" y="473"/>
                  </a:lnTo>
                  <a:lnTo>
                    <a:pt x="414" y="459"/>
                  </a:lnTo>
                  <a:lnTo>
                    <a:pt x="438" y="444"/>
                  </a:lnTo>
                  <a:lnTo>
                    <a:pt x="462" y="444"/>
                  </a:lnTo>
                  <a:lnTo>
                    <a:pt x="486" y="444"/>
                  </a:lnTo>
                  <a:lnTo>
                    <a:pt x="510" y="444"/>
                  </a:lnTo>
                  <a:lnTo>
                    <a:pt x="533" y="442"/>
                  </a:lnTo>
                  <a:lnTo>
                    <a:pt x="556" y="441"/>
                  </a:lnTo>
                  <a:lnTo>
                    <a:pt x="575" y="438"/>
                  </a:lnTo>
                  <a:lnTo>
                    <a:pt x="595" y="435"/>
                  </a:lnTo>
                  <a:lnTo>
                    <a:pt x="614" y="432"/>
                  </a:lnTo>
                  <a:lnTo>
                    <a:pt x="609" y="416"/>
                  </a:lnTo>
                  <a:lnTo>
                    <a:pt x="605" y="401"/>
                  </a:lnTo>
                  <a:lnTo>
                    <a:pt x="601" y="387"/>
                  </a:lnTo>
                  <a:lnTo>
                    <a:pt x="598" y="372"/>
                  </a:lnTo>
                  <a:lnTo>
                    <a:pt x="594" y="356"/>
                  </a:lnTo>
                  <a:lnTo>
                    <a:pt x="591" y="341"/>
                  </a:lnTo>
                  <a:lnTo>
                    <a:pt x="588" y="323"/>
                  </a:lnTo>
                  <a:lnTo>
                    <a:pt x="584" y="303"/>
                  </a:lnTo>
                  <a:lnTo>
                    <a:pt x="628" y="266"/>
                  </a:lnTo>
                  <a:lnTo>
                    <a:pt x="669" y="227"/>
                  </a:lnTo>
                  <a:lnTo>
                    <a:pt x="709" y="191"/>
                  </a:lnTo>
                  <a:lnTo>
                    <a:pt x="747" y="154"/>
                  </a:lnTo>
                  <a:lnTo>
                    <a:pt x="784" y="117"/>
                  </a:lnTo>
                  <a:lnTo>
                    <a:pt x="819" y="79"/>
                  </a:lnTo>
                  <a:lnTo>
                    <a:pt x="856" y="40"/>
                  </a:lnTo>
                  <a:lnTo>
                    <a:pt x="893" y="0"/>
                  </a:lnTo>
                  <a:lnTo>
                    <a:pt x="853" y="29"/>
                  </a:lnTo>
                  <a:lnTo>
                    <a:pt x="815" y="57"/>
                  </a:lnTo>
                  <a:lnTo>
                    <a:pt x="777" y="83"/>
                  </a:lnTo>
                  <a:lnTo>
                    <a:pt x="738" y="109"/>
                  </a:lnTo>
                  <a:lnTo>
                    <a:pt x="699" y="134"/>
                  </a:lnTo>
                  <a:lnTo>
                    <a:pt x="658" y="157"/>
                  </a:lnTo>
                  <a:lnTo>
                    <a:pt x="615" y="181"/>
                  </a:lnTo>
                  <a:lnTo>
                    <a:pt x="571" y="204"/>
                  </a:lnTo>
                  <a:lnTo>
                    <a:pt x="568" y="181"/>
                  </a:lnTo>
                  <a:lnTo>
                    <a:pt x="567" y="160"/>
                  </a:lnTo>
                  <a:lnTo>
                    <a:pt x="566" y="137"/>
                  </a:lnTo>
                  <a:lnTo>
                    <a:pt x="564" y="115"/>
                  </a:lnTo>
                  <a:lnTo>
                    <a:pt x="563" y="94"/>
                  </a:lnTo>
                  <a:lnTo>
                    <a:pt x="561" y="71"/>
                  </a:lnTo>
                  <a:lnTo>
                    <a:pt x="560" y="46"/>
                  </a:lnTo>
                  <a:lnTo>
                    <a:pt x="558" y="22"/>
                  </a:lnTo>
                  <a:close/>
                </a:path>
              </a:pathLst>
            </a:custGeom>
            <a:solidFill>
              <a:srgbClr val="cfece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611280" y="6384960"/>
            <a:ext cx="7632720" cy="47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6699"/>
                </a:solidFill>
                <a:latin typeface="Arial"/>
              </a:rPr>
              <a:t>Workshop on Accounting Risk Management and Prudential Regu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6699"/>
                </a:solidFill>
                <a:latin typeface="Arial"/>
              </a:rPr>
              <a:t>Basel, 11 – 12 November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7880" y="3984120"/>
            <a:ext cx="7788240" cy="94644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cfe7e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256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00825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99160" y="6416280"/>
            <a:ext cx="9169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fe7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3A39-D368-447B-8820-50F9194E03A4}" type="slidenum">
              <a:rPr b="1" lang="en-GB" sz="1200" spc="-1" strike="noStrike">
                <a:solidFill>
                  <a:srgbClr val="7fb2b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1000" y="-27000"/>
            <a:ext cx="8551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fe7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b2b4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7fb2b4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8256"/>
              </a:buClr>
              <a:buSzPct val="75000"/>
              <a:buFont typeface="Wingdings" charset="2"/>
              <a:buChar char="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908000" y="1989000"/>
            <a:ext cx="6697800" cy="3168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7fb2b4"/>
            </a:solidFill>
            <a:miter/>
          </a:ln>
          <a:effectLst>
            <a:outerShdw dist="52300" dir="4563564" blurRad="0" rotWithShape="0">
              <a:srgbClr val="7fb2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828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606c"/>
                </a:solidFill>
                <a:latin typeface="Arial Black"/>
              </a:rPr>
              <a:t>Behavioural changes of financial institutions in response to changes</a:t>
            </a:r>
            <a:br>
              <a:rPr sz="2100"/>
            </a:br>
            <a:r>
              <a:rPr b="0" i="1" lang="en-GB" sz="2100" spc="-1" strike="noStrike">
                <a:solidFill>
                  <a:srgbClr val="00606c"/>
                </a:solidFill>
                <a:latin typeface="Arial Black"/>
              </a:rPr>
              <a:t>in account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8256"/>
                </a:solidFill>
                <a:latin typeface="Arial Black"/>
              </a:rPr>
              <a:t> </a:t>
            </a:r>
            <a:r>
              <a:rPr b="0" i="1" lang="en-GB" sz="2100" spc="-1" strike="noStrike">
                <a:solidFill>
                  <a:srgbClr val="db2b2b"/>
                </a:solidFill>
                <a:latin typeface="Arial Black"/>
              </a:rPr>
              <a:t>Gérard GIL</a:t>
            </a:r>
            <a:r>
              <a:rPr b="0" i="1" lang="en-GB" sz="2100" spc="-1" strike="noStrike">
                <a:solidFill>
                  <a:srgbClr val="008256"/>
                </a:solidFill>
                <a:latin typeface="Arial Blac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8256"/>
                </a:solidFill>
                <a:latin typeface="Arial Black"/>
              </a:rPr>
              <a:t>Group Chief Accountant Offic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8256"/>
                </a:solidFill>
                <a:latin typeface="Arial Black"/>
              </a:rPr>
              <a:t>Group BNP Parib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996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763640" y="6353280"/>
            <a:ext cx="7129440" cy="504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256"/>
                </a:solidFill>
                <a:latin typeface="Arial Black"/>
              </a:rPr>
              <a:t>Workshop on Accounting Risk Management and prudential reg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256"/>
                </a:solidFill>
                <a:latin typeface="Arial Black"/>
              </a:rPr>
              <a:t>Basel, 11-12 November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77880" y="1294920"/>
            <a:ext cx="805968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0091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ehavioural changes of financial institutions resulting from changes in accoun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 algn="just">
              <a:spcBef>
                <a:spcPts val="499"/>
              </a:spcBef>
              <a:buClr>
                <a:srgbClr val="db2b2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 relatively new issue in Euro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 algn="just">
              <a:spcBef>
                <a:spcPts val="499"/>
              </a:spcBef>
              <a:buClr>
                <a:srgbClr val="db2b2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ittle evidence based on specific stud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 algn="just">
              <a:spcBef>
                <a:spcPts val="499"/>
              </a:spcBef>
              <a:buClr>
                <a:srgbClr val="db2b2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FRS : a real life case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 algn="just">
              <a:spcBef>
                <a:spcPts val="499"/>
              </a:spcBef>
              <a:buClr>
                <a:srgbClr val="db2b2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ternal observations make it difficult to appreciate the real motivation of a change in business behavio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77880" y="1294920"/>
            <a:ext cx="821520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91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ossible reflexions following Anne Beatty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 algn="just">
              <a:lnSpc>
                <a:spcPct val="80000"/>
              </a:lnSpc>
              <a:spcBef>
                <a:spcPts val="499"/>
              </a:spcBef>
              <a:buClr>
                <a:srgbClr val="db2b2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ademic study demonstrating that the interaction between accounting and business behaviour is not only an intu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 algn="just">
              <a:lnSpc>
                <a:spcPct val="80000"/>
              </a:lnSpc>
              <a:spcBef>
                <a:spcPts val="499"/>
              </a:spcBef>
              <a:buClr>
                <a:srgbClr val="db2b2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counting is not just a « language », it also conditions or influ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 algn="just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SzPct val="7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usiness behaviou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 algn="just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SzPct val="7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ial behaviou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 algn="just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SzPct val="7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petition between companies and « economies 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 algn="just">
              <a:lnSpc>
                <a:spcPct val="80000"/>
              </a:lnSpc>
              <a:spcBef>
                <a:spcPts val="499"/>
              </a:spcBef>
              <a:buClr>
                <a:srgbClr val="db2b2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 a profit driven world, management is concerned by the way results of operations are presented and interpreted by the mark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 algn="just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SzPct val="7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ccounting rule is business ru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77880" y="1294920"/>
            <a:ext cx="805968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0091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 few illustrations of changes in behaviour as a result of the adoption of IF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counting changes may or have affec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 algn="just">
              <a:spcBef>
                <a:spcPts val="451"/>
              </a:spcBef>
              <a:buClr>
                <a:srgbClr val="006699"/>
              </a:buClr>
              <a:buSzPct val="7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offer of financial produ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 algn="just">
              <a:spcBef>
                <a:spcPts val="451"/>
              </a:spcBef>
              <a:buClr>
                <a:srgbClr val="006699"/>
              </a:buClr>
              <a:buSzPct val="7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social behaviour of a compan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 algn="just">
              <a:spcBef>
                <a:spcPts val="451"/>
              </a:spcBef>
              <a:buClr>
                <a:srgbClr val="006699"/>
              </a:buClr>
              <a:buSzPct val="7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petitive distor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 algn="just">
              <a:spcBef>
                <a:spcPts val="451"/>
              </a:spcBef>
              <a:buClr>
                <a:srgbClr val="006699"/>
              </a:buClr>
              <a:buSzPct val="7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underlying rationale of operations or strateg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95280" y="993240"/>
            <a:ext cx="8569440" cy="525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166"/>
                </a:solidFill>
                <a:latin typeface="Arial"/>
              </a:rPr>
              <a:t>3.1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ccounting changes may  affect the offer of financial produ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1360" indent="-150840" algn="just">
              <a:buClr>
                <a:srgbClr val="0066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rkets have an adverse attitude to the volatility of the profit and loss accou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1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1360" indent="-150840" algn="just">
              <a:buClr>
                <a:srgbClr val="0066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full fair value model applied to the banking book would create fake volatility in the P/L in the context of demand deposit hedg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1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1360" indent="-150840" algn="just">
              <a:buClr>
                <a:srgbClr val="0066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anks may reduce their fixed rate loans exposure, and pass to their clients more variable rate exposure (e.g. mortgage loans, investment loa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1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1360" indent="-150840" algn="just">
              <a:buClr>
                <a:srgbClr val="0066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mitation of fixed rate loans in a proportion acceptable with volatility expec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1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1360" indent="-150840" algn="just">
              <a:buClr>
                <a:srgbClr val="0066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jor change for the banking industry in the context of a fixed rate economic environ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136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0" algn="just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 opportunity for banks not required to comply with IFRS or non-li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06080" y="1267920"/>
            <a:ext cx="834228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711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166"/>
                </a:solidFill>
                <a:latin typeface="Arial"/>
              </a:rPr>
              <a:t>3.2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ccounting changes have affected the social behaviour of compan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0640" indent="-270000" algn="just">
              <a:lnSpc>
                <a:spcPct val="90000"/>
              </a:lnSpc>
              <a:spcBef>
                <a:spcPts val="499"/>
              </a:spcBef>
              <a:buClr>
                <a:srgbClr val="db2b2b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anks are disadvantaged through paying differed bonuses in the form of shares (IFRS 2) rather than of cash for past performance of trad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44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0640" indent="-270000" algn="just">
              <a:lnSpc>
                <a:spcPct val="90000"/>
              </a:lnSpc>
              <a:spcBef>
                <a:spcPts val="499"/>
              </a:spcBef>
              <a:buClr>
                <a:srgbClr val="db2b2b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aracteristics of stock options  need  to be modified to reduce the P&amp;L charge. The provision of such benefits may well be reduced global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0640" indent="-270000" algn="just">
              <a:lnSpc>
                <a:spcPct val="90000"/>
              </a:lnSpc>
              <a:spcBef>
                <a:spcPts val="499"/>
              </a:spcBef>
              <a:buClr>
                <a:srgbClr val="db2b2b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ealthcare scheme based on the principle of « solidarity between generations » had to be modified in France to avoid being qualified as defined benefit plans in respect of retir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569440" cy="501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6303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166"/>
                </a:solidFill>
                <a:latin typeface="Arial"/>
              </a:rPr>
              <a:t>3.3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Accounting changes may create competitive distors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1124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1240" indent="-201600" algn="just">
              <a:spcBef>
                <a:spcPts val="499"/>
              </a:spcBef>
              <a:buClr>
                <a:srgbClr val="db2b2b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usiness combinations : generalisation of the purchase accounting method gives an advantage to already concentrated indust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95440" indent="-304920" algn="just">
              <a:spcBef>
                <a:spcPts val="451"/>
              </a:spcBef>
              <a:buClr>
                <a:srgbClr val="0066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oling of interest have given an incentive to growth to some industries in certain econom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95440" indent="-304920" algn="just">
              <a:spcBef>
                <a:spcPts val="451"/>
              </a:spcBef>
              <a:buClr>
                <a:srgbClr val="0066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urchase accounting method favours the « big » play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95440" indent="0" algn="just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1240" indent="-201600" algn="just">
              <a:spcBef>
                <a:spcPts val="499"/>
              </a:spcBef>
              <a:buClr>
                <a:srgbClr val="db2b2b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ading : synthetic instruments marked to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95440" indent="-304920" algn="just">
              <a:spcBef>
                <a:spcPts val="451"/>
              </a:spcBef>
              <a:buClr>
                <a:srgbClr val="006699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ew Day One profit rules lead to differing of prof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95440" indent="-304920" algn="just">
              <a:spcBef>
                <a:spcPts val="451"/>
              </a:spcBef>
              <a:buClr>
                <a:srgbClr val="006699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velopment of strict rules to qualify observable parameters may transfer business to non regulated industry (hedge fund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95440" indent="-304920" algn="just">
              <a:spcBef>
                <a:spcPts val="451"/>
              </a:spcBef>
              <a:buClr>
                <a:srgbClr val="006699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ilor made synthetic instruments (CDO’s, Power Duals…) may become less secure for inves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560" y="922320"/>
            <a:ext cx="8575560" cy="561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449280" indent="0" algn="just">
              <a:lnSpc>
                <a:spcPct val="11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166"/>
                </a:solidFill>
                <a:latin typeface="Arial"/>
              </a:rPr>
              <a:t>3.4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Accounting changes may lead to unrational behavio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0" algn="just">
              <a:lnSpc>
                <a:spcPct val="11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358920" algn="just">
              <a:lnSpc>
                <a:spcPct val="110000"/>
              </a:lnSpc>
              <a:spcBef>
                <a:spcPts val="249"/>
              </a:spcBef>
              <a:buClr>
                <a:srgbClr val="db2b2b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ccounting rules induce banks to develop and engage in practices solely because of the accounting qualification im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1680" indent="-304920" algn="just">
              <a:lnSpc>
                <a:spcPct val="110000"/>
              </a:lnSpc>
              <a:spcBef>
                <a:spcPts val="224"/>
              </a:spcBef>
              <a:buClr>
                <a:srgbClr val="0066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sh flows hedge of demand deposits need a variable rate asset portfol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71680" indent="-304920" algn="just">
              <a:lnSpc>
                <a:spcPct val="110000"/>
              </a:lnSpc>
              <a:spcBef>
                <a:spcPts val="224"/>
              </a:spcBef>
              <a:buClr>
                <a:srgbClr val="0066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f such portfolio does not naturally exist, it has to be artificially cre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71680" indent="0" algn="just">
              <a:lnSpc>
                <a:spcPct val="11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358920" algn="just">
              <a:lnSpc>
                <a:spcPct val="110000"/>
              </a:lnSpc>
              <a:spcBef>
                <a:spcPts val="249"/>
              </a:spcBef>
              <a:buClr>
                <a:srgbClr val="db2b2b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ccounting rules may result in companies not hedging their future ris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1680" indent="-304920" algn="just">
              <a:lnSpc>
                <a:spcPct val="110000"/>
              </a:lnSpc>
              <a:spcBef>
                <a:spcPts val="224"/>
              </a:spcBef>
              <a:buClr>
                <a:srgbClr val="006699"/>
              </a:buClr>
              <a:buSzPct val="7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uture turnover in a foreign currency needs to be protected against exchange rate fluctuations. Accounting of the change in value of the protection in an inadequate period may discourage the hedging strate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1052640"/>
            <a:ext cx="8466120" cy="525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 algn="just">
              <a:lnSpc>
                <a:spcPct val="80000"/>
              </a:lnSpc>
              <a:spcBef>
                <a:spcPts val="499"/>
              </a:spcBef>
              <a:buClr>
                <a:srgbClr val="db2b2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mpirical evidence of the influence of accounting on business behaviour is demonstr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 algn="just">
              <a:lnSpc>
                <a:spcPct val="80000"/>
              </a:lnSpc>
              <a:spcBef>
                <a:spcPts val="499"/>
              </a:spcBef>
              <a:buClr>
                <a:srgbClr val="db2b2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andard setters cannot disregard the consequences of standard changes on economical behaviour chan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 algn="just">
              <a:lnSpc>
                <a:spcPct val="80000"/>
              </a:lnSpc>
              <a:spcBef>
                <a:spcPts val="499"/>
              </a:spcBef>
              <a:buClr>
                <a:srgbClr val="db2b2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counting standards « condition » economic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 algn="just">
              <a:lnSpc>
                <a:spcPct val="80000"/>
              </a:lnSpc>
              <a:spcBef>
                <a:spcPts val="499"/>
              </a:spcBef>
              <a:buClr>
                <a:srgbClr val="db2b2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iversal accounting standards would lead to uniformization of accounting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hat is the role of accounting standards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Shouldn’t they be adapted to the regional economic model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2T16:31:44Z</dcterms:created>
  <dc:creator>ED</dc:creator>
  <dc:description/>
  <dc:language>en-US</dc:language>
  <cp:lastModifiedBy>Janet Plancherel</cp:lastModifiedBy>
  <cp:lastPrinted>2005-03-02T15:58:57Z</cp:lastPrinted>
  <dcterms:modified xsi:type="dcterms:W3CDTF">2005-11-09T17:40:50Z</dcterms:modified>
  <cp:revision>792</cp:revision>
  <dc:subject/>
  <dc:title>IAT FED</dc:title>
</cp:coreProperties>
</file>