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0056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56AF-13D6-469C-A6AB-3D3C9501A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0487-3B51-436F-AB65-E49DE73A0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4B2A-4E94-4A2C-92CC-F6CCE6150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ED78-CF8D-4824-B129-6F4D11246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1479-51C0-4797-BBDE-F3EAAD2DD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2F3B-DE54-4EB8-9AC8-092DDB750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FC24-4277-4B70-9800-1439893EA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E7B3-C310-4A97-8A1D-1C7ACBD33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4A2A-7D36-445F-86AF-B7AF3F197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3D9D-0040-4795-8098-6FD895E17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D0D7-639E-4A5B-8510-DBA6139A8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3AB4-2D2A-4311-AC2B-AB183D589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1D903-A4BE-4525-9FDE-C5F81D9C14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61680" y="609480"/>
            <a:ext cx="761328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Empirical Relationship Between Average Ass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rrelation, Firm Probability of Default, and Asset Size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Jose A. Lope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950560" y="3276720"/>
            <a:ext cx="2995560" cy="23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scus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orge Pennacch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partment of Fin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niversity of Illino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81160" y="471600"/>
            <a:ext cx="36842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I. Contribution of the Paper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04200" y="1219320"/>
            <a:ext cx="8492760" cy="49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The BCBS’s Foundation approach to Internal Ratings Based capital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requirements assumes that portfolio credits of a particular type have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identical correlations with a single, common risk factor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The paper’s procedure for estimating a credit’s factor correlation is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1) Compute an appropriate capital charge for a portfolio based on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each credit’s correlation derived from KMV’s multi-factor model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2) For the same portfolio, constrain the KMV model to a single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factor and find the common correlation for all credits that gives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the same capital charge as in 1)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This procedure is repeated for portfolios of World, U.S., Japanese,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and European credits, with the credits varying by firm size and EDF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4480" y="228600"/>
            <a:ext cx="7608240" cy="25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II. Discussion of Main Results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n-US" sz="2300" spc="-1" strike="noStrike">
                <a:solidFill>
                  <a:srgbClr val="ffffff"/>
                </a:solidFill>
                <a:latin typeface="Times New Roman"/>
              </a:rPr>
              <a:t>Cross-country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300" spc="-1" strike="noStrike">
                <a:solidFill>
                  <a:srgbClr val="ffffff"/>
                </a:solidFill>
                <a:latin typeface="Times New Roman"/>
              </a:rPr>
              <a:t>differences in average firm factor correlations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 u="sng">
                <a:solidFill>
                  <a:srgbClr val="ffffff"/>
                </a:solidFill>
                <a:uFillTx/>
                <a:latin typeface="Times New Roman"/>
              </a:rPr>
              <a:t>Country Portfolio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 u="sng">
                <a:solidFill>
                  <a:srgbClr val="ffffff"/>
                </a:solidFill>
                <a:uFillTx/>
                <a:latin typeface="Times New Roman"/>
              </a:rPr>
              <a:t>Average Correlation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U.S.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0.16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Europe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0.13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Japan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0.26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2320" y="2895480"/>
            <a:ext cx="8306280" cy="35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Morck, Yeung, and Yu (2000) </a:t>
            </a:r>
            <a:r>
              <a:rPr b="0" i="1" lang="en-US" sz="2300" spc="-1" strike="noStrike">
                <a:solidFill>
                  <a:srgbClr val="ffffff"/>
                </a:solidFill>
                <a:latin typeface="Times New Roman"/>
              </a:rPr>
              <a:t>JFE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confirm these results computing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average stock correlations using domestic and U.S. market indices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 u="sng">
                <a:solidFill>
                  <a:srgbClr val="ffffff"/>
                </a:solidFill>
                <a:uFillTx/>
                <a:latin typeface="Times New Roman"/>
              </a:rPr>
              <a:t>Country Portfolio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 u="sng">
                <a:solidFill>
                  <a:srgbClr val="ffffff"/>
                </a:solidFill>
                <a:uFillTx/>
                <a:latin typeface="Times New Roman"/>
              </a:rPr>
              <a:t>Average Correlation</a:t>
            </a:r>
            <a:r>
              <a:rPr b="0" lang="en-US" sz="2300" spc="-1" strike="noStrike" baseline="30000">
                <a:solidFill>
                  <a:srgbClr val="ffffff"/>
                </a:solidFill>
                <a:latin typeface="Times New Roman"/>
              </a:rPr>
              <a:t>*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U.S.                                          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0.14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U.K.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0.25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France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0.27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Europe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Netherlands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0.32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Germany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0.34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Italy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0.43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Japan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0.48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200400" y="4419720"/>
            <a:ext cx="76320" cy="1676160"/>
          </a:xfrm>
          <a:custGeom>
            <a:avLst/>
            <a:gdLst>
              <a:gd name="textAreaLeft" fmla="*/ 48960 w 76320"/>
              <a:gd name="textAreaRight" fmla="*/ 76320 w 76320"/>
              <a:gd name="textAreaTop" fmla="*/ 43560 h 1676160"/>
              <a:gd name="textAreaBottom" fmla="*/ 1632600 h 1676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630"/>
                </a:lnTo>
                <a:cubicBezTo>
                  <a:pt x="10800" y="10530"/>
                  <a:pt x="5400" y="11430"/>
                  <a:pt x="0" y="11430"/>
                </a:cubicBezTo>
                <a:cubicBezTo>
                  <a:pt x="5400" y="11430"/>
                  <a:pt x="10800" y="12330"/>
                  <a:pt x="10800" y="1323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4480" y="500040"/>
            <a:ext cx="7616160" cy="21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300" spc="-1" strike="noStrike">
                <a:solidFill>
                  <a:srgbClr val="ffffff"/>
                </a:solidFill>
                <a:latin typeface="Times New Roman"/>
              </a:rPr>
              <a:t>Firm asset size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300" spc="-1" strike="noStrike">
                <a:solidFill>
                  <a:srgbClr val="ffffff"/>
                </a:solidFill>
                <a:latin typeface="Times New Roman"/>
              </a:rPr>
              <a:t>differences in average firm factor correlations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 u="sng">
                <a:solidFill>
                  <a:srgbClr val="ffffff"/>
                </a:solidFill>
                <a:uFillTx/>
                <a:latin typeface="Times New Roman"/>
              </a:rPr>
              <a:t>Firm Asset Size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 u="sng">
                <a:solidFill>
                  <a:srgbClr val="ffffff"/>
                </a:solidFill>
                <a:uFillTx/>
                <a:latin typeface="Times New Roman"/>
              </a:rPr>
              <a:t>World Portfolio Correlation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($0, $100m]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0.1000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[$100m, $300m]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0.1125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[$300m,  $1,000m]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0.1375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3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$1,000m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0.2000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520" y="3048120"/>
            <a:ext cx="8380080" cy="324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Paper explains “Larger firms can generally be viewed as a portfolio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of smaller firms.”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But Roll (1988) </a:t>
            </a:r>
            <a:r>
              <a:rPr b="0" i="1" lang="en-US" sz="2300" spc="-1" strike="noStrike">
                <a:solidFill>
                  <a:srgbClr val="ffffff"/>
                </a:solidFill>
                <a:latin typeface="Times New Roman"/>
              </a:rPr>
              <a:t>JF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finds that large firms are not just portfolios of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randomly selected smaller firms.  Large firms tend to specialize in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an industry, reducing the potential for cross-industry diversification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Moreover, Roll (1992) </a:t>
            </a:r>
            <a:r>
              <a:rPr b="0" i="1" lang="en-US" sz="2300" spc="-1" strike="noStrike">
                <a:solidFill>
                  <a:srgbClr val="ffffff"/>
                </a:solidFill>
                <a:latin typeface="Times New Roman"/>
              </a:rPr>
              <a:t>JF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finds that some countries specialize in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particular industries, partially explaining cross-country differences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60360" y="304920"/>
            <a:ext cx="8631360" cy="56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300" spc="-1" strike="noStrike">
                <a:solidFill>
                  <a:srgbClr val="ffffff"/>
                </a:solidFill>
                <a:latin typeface="Times New Roman"/>
              </a:rPr>
              <a:t>Average firm correlations increase with credit quality (lower EDF)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n-US" sz="2300" spc="-1" strike="noStrike">
                <a:solidFill>
                  <a:srgbClr val="ffffff"/>
                </a:solidFill>
                <a:latin typeface="Times New Roman"/>
              </a:rPr>
              <a:t>though the effect holds primarily for larger firms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(A)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A 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time series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interpretation: When a given firm gets riskier, say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during an industry downturn, its assets’ correlation with the common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factor declines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Why should this be so?  Do distressed firms switch to activities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(assets) having less correlation with the common factor?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(B)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A 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cross section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interpretation: Firms whose assets have greater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factor correlation tend to choose safer capital structures (lower EDFs)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Whether (A) or (B) is true has implications for implementing capital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standards.  If (B), but not (A), is correct, then a credit’s correlation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should depend on its EDF at the time the credit is issued, not its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current EDF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06360" y="686160"/>
            <a:ext cx="8516880" cy="18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These interpretations are subject to empirical tests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(A)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As a given credit’s EDF increases (decreases) over time, does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the firm assets’ estimated factor correlation tend to fall (rise)?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(B)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When credits are originated, do borrowers with high (low) EDFs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tend to have assets with low (high) estimated factor correlations?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08880" y="914400"/>
            <a:ext cx="8704080" cy="49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300" spc="-1" strike="noStrike">
                <a:solidFill>
                  <a:srgbClr val="ffffff"/>
                </a:solidFill>
                <a:latin typeface="Times New Roman"/>
              </a:rPr>
              <a:t>Property rights as an explanation for assets’ factor correlations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Morck, Yeung, and Yu (2000) </a:t>
            </a:r>
            <a:r>
              <a:rPr b="0" i="1" lang="en-US" sz="2300" spc="-1" strike="noStrike">
                <a:solidFill>
                  <a:srgbClr val="ffffff"/>
                </a:solidFill>
                <a:latin typeface="Times New Roman"/>
              </a:rPr>
              <a:t>JFE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find stocks have higher factor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correlations in developing economies with poor private property rights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Factor correlations are also greater in developed economies lacking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corporate governance that protects public investors.  Poor property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rights leads to inter-corporate income shifting and inhibits risk-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arbitrage: firm values are less affected by firm-specific news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300" spc="-1" strike="noStrike">
                <a:solidFill>
                  <a:srgbClr val="ffffff"/>
                </a:solidFill>
                <a:latin typeface="Times New Roman"/>
              </a:rPr>
              <a:t>Time series variation in assets’ correlations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Campbell, Lettau, Malkiel, and Xu (2001) </a:t>
            </a:r>
            <a:r>
              <a:rPr b="0" i="1" lang="en-US" sz="2300" spc="-1" strike="noStrike">
                <a:solidFill>
                  <a:srgbClr val="ffffff"/>
                </a:solidFill>
                <a:latin typeface="Times New Roman"/>
              </a:rPr>
              <a:t>JF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document that average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U.S. stock correlations have decline dramatically, from 0.28 in 1962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to 0.08 in 1997.</a:t>
            </a:r>
            <a:r>
              <a:rPr b="0" lang="en-US" sz="2300" spc="-1" strike="noStrike" baseline="30000">
                <a:solidFill>
                  <a:srgbClr val="ffffff"/>
                </a:solidFill>
                <a:latin typeface="Times New Roman"/>
              </a:rPr>
              <a:t>*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Possible reasons: younger, smaller firms are now able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to issue publicly-traded securities; trend toward breaking up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conglomerates. 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3640" y="318960"/>
            <a:ext cx="18432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39120" y="357120"/>
            <a:ext cx="22395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III. Other Issues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33880" y="609480"/>
            <a:ext cx="7923960" cy="39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300" spc="-1" strike="noStrike">
                <a:solidFill>
                  <a:srgbClr val="ffffff"/>
                </a:solidFill>
                <a:latin typeface="Times New Roman"/>
              </a:rPr>
              <a:t>Empirical specifications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1) What is the correct underlying sample of credits?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The paper’s equally weighted sample of publicly-traded firms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or a value weighted sample of rated credits typically held by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banks?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2) What is the correct composition of the “common factor”?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The paper’s U.S. and unassigned industry factors or a global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value weighted average of all country and industry factors?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If choice does not matter, this may indicate the poor fit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of any single factor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85440" y="849960"/>
            <a:ext cx="8014320" cy="42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EndNote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* Morck, Yeung, and Yu (2000) </a:t>
            </a:r>
            <a:r>
              <a:rPr b="0" i="1" lang="en-US" sz="2300" spc="-1" strike="noStrike">
                <a:solidFill>
                  <a:srgbClr val="ffffff"/>
                </a:solidFill>
                <a:latin typeface="Times New Roman"/>
              </a:rPr>
              <a:t>JFE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and Campbell, Lettau, 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Malkiel, and Xu (2001) </a:t>
            </a:r>
            <a:r>
              <a:rPr b="0" i="1" lang="en-US" sz="2300" spc="-1" strike="noStrike">
                <a:solidFill>
                  <a:srgbClr val="ffffff"/>
                </a:solidFill>
                <a:latin typeface="Times New Roman"/>
              </a:rPr>
              <a:t>JF 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report R</a:t>
            </a:r>
            <a:r>
              <a:rPr b="0" lang="en-US" sz="23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s.  I have converted them to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correlations by taking the square root.  These papers’ correlation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estimates may not be directly comparable to those of the current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paper because correlation calculations are done using returns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over different holding periods.  However, the relative differences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across countries and time are noteworthy.  Though these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papers report firms’ equity (stock) correlations, if firms’ 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liabilities grow deterministically (as is assumed by the KMV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model), they also equal the firms’ asset correlations. 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04T19:39:33Z</dcterms:created>
  <dc:creator>George Pennacchi</dc:creator>
  <dc:description/>
  <dc:language>en-US</dc:language>
  <cp:lastModifiedBy>George Pennacchi</cp:lastModifiedBy>
  <cp:lastPrinted>2000-11-08T00:51:03Z</cp:lastPrinted>
  <dcterms:modified xsi:type="dcterms:W3CDTF">2002-05-20T16:05:44Z</dcterms:modified>
  <cp:revision>98</cp:revision>
  <dc:subject/>
  <dc:title>No Slide Title</dc:title>
</cp:coreProperties>
</file>