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D68-8A38-4456-9406-72D94B1E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3AF-1F09-48B0-8EC3-06589A90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B26-71B4-410E-BF9F-947DBAAB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0B4-5E39-4966-8876-159BF1E7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62C-0744-4C5D-B2F7-EDC7B883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EF9-B069-4586-B969-3080B671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486-81D9-490E-A0C3-7A76B279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CC9-2A5D-46BC-8810-7F230395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0EA-E85F-4781-AE58-84BEF304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C1E-3007-48A4-A29D-36E04DC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1F3-2A40-4B91-86D0-AA539450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CE5-4FC2-491E-A3FB-26054A95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AD14-4C85-4F15-8B1A-A628FA112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1680" y="609480"/>
            <a:ext cx="7613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mpirical Relationship Between Average As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relation, Firm Probability of Default, and Asset Siz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se A. Lop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50560" y="3276720"/>
            <a:ext cx="29955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orge Pennacc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artment of Fi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versity of Illin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1160" y="471600"/>
            <a:ext cx="3684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. Contribution of the Pap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200" y="1219320"/>
            <a:ext cx="8492760" cy="49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e BCBS’s Foundation approach to Internal Ratings Based capit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requirements assumes that portfolio credits of a particular type hav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dentical correlations with a single, common risk facto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e paper’s procedure for estimating a credit’s factor correlation i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1) Compute an appropriate capital charge for a portfolio based 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ach credit’s correlation derived from KMV’s multi-factor model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2) For the same portfolio, constrain the KMV model to a singl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actor and find the common correlation for all credits that giv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e same capital charge as in 1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is procedure is repeated for portfolios of World, U.S., Japanese,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nd European credits, with the credits varying by firm size and EDF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480" y="228600"/>
            <a:ext cx="76082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I. Discussion of Main Result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Cross-country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differences in average firm factor correlation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Country Portfolio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Average Correl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U.S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16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urop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13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Japan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26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2320" y="2895480"/>
            <a:ext cx="830628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Morck, Yeung, and Yu (2000)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JF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confirm these results computing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verage stock correlations using domestic and U.S. market indic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Country Portfolio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Average Correlation</a:t>
            </a:r>
            <a:r>
              <a:rPr b="0" lang="en-US" sz="23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U.S.                                  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14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U.K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25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27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urop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Netherland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32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Germany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34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taly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43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Japan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48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4419720"/>
            <a:ext cx="76320" cy="1676160"/>
          </a:xfrm>
          <a:custGeom>
            <a:avLst/>
            <a:gdLst>
              <a:gd name="textAreaLeft" fmla="*/ 48960 w 76320"/>
              <a:gd name="textAreaRight" fmla="*/ 76320 w 763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30"/>
                </a:lnTo>
                <a:cubicBezTo>
                  <a:pt x="10800" y="10530"/>
                  <a:pt x="5400" y="11430"/>
                  <a:pt x="0" y="11430"/>
                </a:cubicBezTo>
                <a:cubicBezTo>
                  <a:pt x="5400" y="11430"/>
                  <a:pt x="10800" y="12330"/>
                  <a:pt x="10800" y="1323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4480" y="500040"/>
            <a:ext cx="76161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Firm asset siz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differences in average firm factor correlation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Firm Asset Siz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World Portfolio Correl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($0, $100m]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100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[$100m, $300m]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1125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[$300m,  $1,000m]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1375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$1,000m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200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520" y="3048120"/>
            <a:ext cx="838008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aper explains “Larger firms can generally be viewed as a portfoli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of smaller firms.”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But Roll (1988)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JF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finds that large firms are not just portfolios of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randomly selected smaller firms.  Large firms tend to specialize i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n industry, reducing the potential for cross-industry diversificatio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Moreover, Roll (1992)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JF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finds that some countries specialize i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articular industries, partially explaining cross-country differenc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60360" y="304920"/>
            <a:ext cx="863136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Average firm correlations increase with credit quality (lower EDF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though the effect holds primarily for larger firm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(A)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ime serie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interpretation: When a given firm gets riskier, sa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uring an industry downturn, its assets’ correlation with the comm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actor declin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Why should this be so?  Do distressed firms switch to activiti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(assets) having less correlation with the common factor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(B)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interpretation: Firms whose assets have great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actor correlation tend to choose safer capital structures (lower EDFs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Whether (A) or (B) is true has implications for implementing capit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tandards.  If (B), but not (A), is correct, then a credit’s correl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hould depend on its EDF at the time the credit is issued, not it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urrent EDF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6360" y="686160"/>
            <a:ext cx="85168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ese interpretations are subject to empirical test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(A)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s a given credit’s EDF increases (decreases) over time, do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e firm assets’ estimated factor correlation tend to fall (rise)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(B)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When credits are originated, do borrowers with high (low) EDF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end to have assets with low (high) estimated factor correlations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8880" y="914400"/>
            <a:ext cx="87040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Property rights as an explanation for assets’ factor correlation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Morck, Yeung, and Yu (2000)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JF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find stocks have higher facto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orrelations in developing economies with poor private property right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actor correlations are also greater in developed economies lacking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orporate governance that protects public investors.  Poor propert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rights leads to inter-corporate income shifting and inhibits risk-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rbitrage: firm values are less affected by firm-specific new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Time series variation in assets’ correlation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ampbell, Lettau, Malkiel, and Xu (2001)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JF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document that averag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U.S. stock correlations have decline dramatically, from 0.28 in 1962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o 0.08 in 1997.</a:t>
            </a:r>
            <a:r>
              <a:rPr b="0" lang="en-US" sz="23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Possible reasons: younger, smaller firms are now abl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o issue publicly-traded securities; trend toward breaking up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onglomerates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3640" y="318960"/>
            <a:ext cx="1843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9120" y="357120"/>
            <a:ext cx="2239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II. Other Issu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880" y="609480"/>
            <a:ext cx="792396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Empirical specification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1) What is the correct underlying sample of credits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e paper’s equally weighted sample of publicly-traded firm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or a value weighted sample of rated credits typically held b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banks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2) What is the correct composition of the “common factor”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e paper’s U.S. and unassigned industry factors or a glob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value weighted average of all country and industry factors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f choice does not matter, this may indicate the poor fi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of any single facto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440" y="849960"/>
            <a:ext cx="80143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EndNot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* Morck, Yeung, and Yu (2000)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JF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nd Campbell, Lettau,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Malkiel, and Xu (2001)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JF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report R</a:t>
            </a:r>
            <a:r>
              <a:rPr b="0" lang="en-US" sz="23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.  I have converted them 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orrelations by taking the square root.  These papers’ correl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stimates may not be directly comparable to those of the curren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aper because correlation calculations are done using return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over different holding periods.  However, the relative differenc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cross countries and time are noteworthy.  Though thes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apers report firms’ equity (stock) correlations, if firms’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liabilities grow deterministically (as is assumed by the KMV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model), they also equal the firms’ asset correlations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4T19:39:33Z</dcterms:created>
  <dc:creator>George Pennacchi</dc:creator>
  <dc:description/>
  <dc:language>en-US</dc:language>
  <cp:lastModifiedBy>George Pennacchi</cp:lastModifiedBy>
  <cp:lastPrinted>2000-11-08T00:51:03Z</cp:lastPrinted>
  <dcterms:modified xsi:type="dcterms:W3CDTF">2002-05-20T16:05:44Z</dcterms:modified>
  <cp:revision>98</cp:revision>
  <dc:subject/>
  <dc:title>No Slide Title</dc:title>
</cp:coreProperties>
</file>