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gulatory and ‘economic’ solvency standards for internationally active ba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ment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iovanni Majn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The 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asel II: An Economic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Basel Committee on Banking Supervision, May 17-18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ope of the analysis and open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at if the transition matrix looks lik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nsition matrix for bank loans in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urce: Lowe and Segoviano (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905120" y="2362320"/>
          <a:ext cx="5181480" cy="3403440"/>
        </p:xfrm>
        <a:graphic>
          <a:graphicData uri="http://schemas.openxmlformats.org/drawingml/2006/table">
            <a:tbl>
              <a:tblPr/>
              <a:tblGrid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6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7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295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190520"/>
            <a:ext cx="8169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paper provides a useful simulation methodology to select levels of capital requiremen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concentrating on large international banks from G10 countries provides evidence of a market discipline tighter than regulatory standard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aves open the question of the latitude of market discipline and of the levels of capital when we move away from the world of wholesale ba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in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questions addressed and the result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ments on methodological question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cope of the analysis and possible extens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questions addres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regulatory question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level of “survival probability” is embedded in the 8% ru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 what level of bank mortality is acceptable for bank regulator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economic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level of “survival probability” banks consider when setting the levels of capital that they effectively set asi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justifies prevailing levels of ca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same questions could be 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ving from Basel I to Basel I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 it realistic the objective of the BCBS of keeping at the 8% level the average capital requirement in Basel I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ould we expect a sudden rise or fall of capital requi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for wh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robust are the empirical relationship between capital and insolvency level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answers of the pa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09480" indent="-6094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For large internationally active banks the 4% requirement of core capital is coherent with a default ratio between 4% (three years horizon, average quality portfolio of US banks) and 0.01% (one year, good quality portfolio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e amount of capital held by large G10 banks is equal on average to 7% (equivalent to less than 0,001% default probability over one year horizon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e market discipline enforce an economic ratio larger than the regulatory on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(Implicitly) switching to a regime that envisages similar default frequencies should not have major quantitative effec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ethodological con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mulation procedure for a MTM loan portfolio exposed to a common risk fa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llows a simplified CreditMetrics appro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lects a set of relevant parameters: a representative portfolio composition, an S&amp;P transition matrix, an average 50% LGD modeled as a beta distribu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e Carey (2002) for a simulation based on a DM approa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irical measurement of the “implicit public guarantee” element built into banks ratings in order to assess “market” evaluation of financial streng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a terminology 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fidence interv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 the paper is the “survival probability” or “solvency standard” (1-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 other reference to more traditional notion of “confidence interval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measure of the precision of the estimated parameters of the loss distribution function (mean, percentile level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not possible to distinguish whether the different default probability levels are significantly different among different simulations or, alternatively, how many capital levels are compatible with one  “survival probabilit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fidence inter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fidence intervals (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of “confidence intervals” in the paper terminolog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 grow rapidly as we measure percentiles farther away in the tail of a distrib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/2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 std. error of the sample mean of a normal distribu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/2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 std. error of a sample percentile (k= 2.13 for the 5% percentile; k= 3.77 for the 1% percentil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re so for asymmetric distributions (Kupiec, 1997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 incidental remark: lack of quantitative assessments of general loan loss provisions, easier to estimate, especially where data are scar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ope of the analysis and open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at if we consider loan portfolios of banks not internationally active? Or if the authors had considered transition matrices taken from crisis periods (Carey, 2002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en we leave the world of “internationally active banks” an evaluation of the adequate level of economic capital and of market discipline becomes much har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ng often would not be avail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emerging economies, when available, ratings are almost completely determined by the “support” component (sovereign rat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15:37:12Z</dcterms:created>
  <dc:creator>WB176742</dc:creator>
  <dc:description/>
  <dc:language>en-US</dc:language>
  <cp:lastModifiedBy>WB176742</cp:lastModifiedBy>
  <dcterms:modified xsi:type="dcterms:W3CDTF">2002-05-17T06:03:22Z</dcterms:modified>
  <cp:revision>57</cp:revision>
  <dc:subject/>
  <dc:title>General issues</dc:title>
</cp:coreProperties>
</file>