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24D2B-DE21-413C-97EC-52F24B573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DDC55-C7FA-4C25-BDF0-2DF46A440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DA7F2-2421-40AA-9EED-27EE325E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5320E-942B-48C5-88DB-71407513C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0CE7-4892-4047-A283-70FFC5BF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7757-014E-4FC2-B12E-FD13CABE6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6A2E-AE70-4C00-A5CC-F40F8372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A57DB-4FD6-4E57-9599-8D809F3A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B77B-C775-49BE-A980-17A8EE4B3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8ACD-F5F5-493E-9096-615AC2F8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C945-E937-4C2B-892F-888C93872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1156-6AE8-46C2-992A-2D118F998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6C13-AC6B-48E1-968F-82C7CB5AA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ome Evidence on the Consistency of Banks’Internal Credit Rating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y Mark Car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cussion: Xavier Freix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 paper exploits a carefully designed database, the Loan Loss Database and allows to identify and to predict disagreement in internal credit ratings. But consistency does not mean accur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ain result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verall, lenders are neither optimistic nor pessimistic (computed on the required capital so as to avoid an important biais on the riskier borrow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re is no convergence over time (after one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ain results (II)</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ing disagreement across lenders are not very predictable from borrower characteristics.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sagreements are less likely for large borrowers and for borrowers that have not drawn down much on their lines of credi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mall disagreements are important for high quality borro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Non significative variabl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rprisingly, the following variables are not significative in explaining internal ratings disagre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e since origin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ency r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tivation for the pape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 evolutionary view of the market conflicts with prudential regulation. </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nks that enter a new segment of business are likely to be less accurate: Learning by lending assumption.</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tionship banking and ex post monopoly of information.</a:t>
            </a:r>
            <a:endParaRPr b="0" lang="en-US" sz="32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centives to missreport: Aghion Bolton and Fries(2000) and Mitchell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interpreting the result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garding overoptimistic lenders, results are reassuring. Still, the lender dummy is highly significative in the regression. This may be due because conditionally on the regression variables some lenders are optimistic and other pessimistic.</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garding the the learning by lending assumption results indicate (unconditional) lack of convergence after one ye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suggestion on rating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here is more agreement for high risk cla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f confirmed, this suggests that we could refine the risk class parti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5:31:21Z</dcterms:created>
  <dc:creator>Xavier Freixas</dc:creator>
  <dc:description/>
  <dc:language>en-US</dc:language>
  <cp:lastModifiedBy>cememasa</cp:lastModifiedBy>
  <dcterms:modified xsi:type="dcterms:W3CDTF">2002-10-14T09:01:17Z</dcterms:modified>
  <cp:revision>2</cp:revision>
  <dc:subject/>
  <dc:title>Some Evidence on the Consistency of Banks’Internal Credit Ratings</dc:title>
</cp:coreProperties>
</file>