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6858000" cy="9907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2241720" y="685440"/>
            <a:ext cx="237456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0FBE3-0D5A-4C83-814B-33886E85E5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2241720" y="685800"/>
            <a:ext cx="2374560" cy="3429000"/>
          </a:xfrm>
          <a:prstGeom prst="rect">
            <a:avLst/>
          </a:prstGeom>
          <a:ln w="0">
            <a:noFill/>
          </a:ln>
        </p:spPr>
      </p:sp>
      <p:sp>
        <p:nvSpPr>
          <p:cNvPr id="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in mind that in good macro state talented bank does only have good borrowers which can all borrow under commitment. Bad bank would be identified as untalented if it denied cred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F432C2-4ABC-4855-83CF-0B87024CEA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65988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514440" y="2476440"/>
            <a:ext cx="5829120" cy="3018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514440" y="5782680"/>
            <a:ext cx="5829120" cy="3018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D72AC-99C3-484C-B7E5-736375A64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65988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514440" y="2476440"/>
            <a:ext cx="2844360" cy="3018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3501360" y="2476440"/>
            <a:ext cx="2844360" cy="3018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514440" y="5782680"/>
            <a:ext cx="2844360" cy="3018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3501360" y="5782680"/>
            <a:ext cx="2844360" cy="3018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DBBD8-5A8F-4BA3-ABC5-DD3C8092C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65988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514440" y="2476440"/>
            <a:ext cx="1876680" cy="3018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2485440" y="2476440"/>
            <a:ext cx="1876680" cy="3018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4456080" y="2476440"/>
            <a:ext cx="1876680" cy="3018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514440" y="5782680"/>
            <a:ext cx="1876680" cy="3018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2485440" y="5782680"/>
            <a:ext cx="1876680" cy="3018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4456080" y="5782680"/>
            <a:ext cx="1876680" cy="3018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47C47-17A5-4512-A96B-EB583A3A11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65988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type="subTitle"/>
          </p:nvPr>
        </p:nvSpPr>
        <p:spPr>
          <a:xfrm>
            <a:off x="514440" y="2476440"/>
            <a:ext cx="5829120" cy="6329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A9326-EE1D-41C6-92EC-5D8D740F8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65988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514440" y="2476440"/>
            <a:ext cx="5829120" cy="63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8FF2F-4628-4F23-A953-4574A1FE1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65988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p:nvPr>
        </p:nvSpPr>
        <p:spPr>
          <a:xfrm>
            <a:off x="514440" y="2476440"/>
            <a:ext cx="2844360" cy="63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3501360" y="2476440"/>
            <a:ext cx="2844360" cy="63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70230-6BBA-4D85-AB6F-A32A8BB49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65988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CC6C3-C537-4188-B784-FCF245729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659880"/>
            <a:ext cx="5829120" cy="7655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BFE56-2997-448B-AB7D-8BA82BC34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65988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2"/>
          <p:cNvSpPr>
            <a:spLocks noGrp="1"/>
          </p:cNvSpPr>
          <p:nvPr>
            <p:ph/>
          </p:nvPr>
        </p:nvSpPr>
        <p:spPr>
          <a:xfrm>
            <a:off x="514440" y="2476440"/>
            <a:ext cx="2844360" cy="3018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3501360" y="2476440"/>
            <a:ext cx="2844360" cy="63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514440" y="5782680"/>
            <a:ext cx="2844360" cy="3018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EB10A-653D-4648-9329-40EA1B754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65988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514440" y="2476440"/>
            <a:ext cx="2844360" cy="63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3501360" y="2476440"/>
            <a:ext cx="2844360" cy="3018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3501360" y="5782680"/>
            <a:ext cx="2844360" cy="3018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79E6F-D305-4A84-9819-16CF883B5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65988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514440" y="2476440"/>
            <a:ext cx="2844360" cy="3018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3501360" y="2476440"/>
            <a:ext cx="2844360" cy="3018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514440" y="5782680"/>
            <a:ext cx="5829120" cy="3018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A25D9-D828-4F84-BDDD-26DBB0FE64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65988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514440" y="2476440"/>
            <a:ext cx="5829120" cy="6329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514080" y="9024480"/>
            <a:ext cx="1428840" cy="660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133360" y="9024480"/>
            <a:ext cx="2514600" cy="660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footer&gt;</a:t>
            </a:r>
            <a:r>
              <a:rPr b="0" lang="nl-NL" sz="1200" spc="-1" strike="noStrike">
                <a:solidFill>
                  <a:srgbClr val="000000"/>
                </a:solidFill>
                <a:latin typeface="Arial"/>
              </a:rPr>
              <a:t>Discussion of Jackson, Perraudin, Saporta by A. Boot </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Basel II</a:t>
            </a:r>
            <a:r>
              <a:rPr b="0" lang="nl-NL" sz="1200" spc="-1" strike="noStrike">
                <a:solidFill>
                  <a:srgbClr val="000000"/>
                </a:solidFill>
                <a:latin typeface="Arial"/>
              </a:rPr>
              <a:t> - Basel, May 2002</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800240" y="8991720"/>
            <a:ext cx="1428840" cy="660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7ED87-B001-4FBF-B69B-2AA180175AF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14440" y="609480"/>
            <a:ext cx="573408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t>
            </a:r>
            <a:r>
              <a:rPr b="1" lang="nl-NL" sz="2400" spc="-1" strike="noStrike">
                <a:solidFill>
                  <a:srgbClr val="000000"/>
                </a:solidFill>
                <a:latin typeface="Arial"/>
              </a:rPr>
              <a:t>Regulatory and ‘economic’ solvency standards for internationally active banks”</a:t>
            </a:r>
            <a:br>
              <a:rPr sz="2400"/>
            </a:br>
            <a:br>
              <a:rPr sz="2400"/>
            </a:br>
            <a:r>
              <a:rPr b="0" i="1" lang="nl-NL" sz="2400" spc="-1" strike="noStrike">
                <a:solidFill>
                  <a:srgbClr val="000000"/>
                </a:solidFill>
                <a:latin typeface="Arial"/>
              </a:rPr>
              <a:t>by</a:t>
            </a:r>
            <a:br>
              <a:rPr sz="2400"/>
            </a:br>
            <a:r>
              <a:rPr b="0" i="1" lang="nl-NL" sz="1600" spc="-1" strike="noStrike">
                <a:solidFill>
                  <a:srgbClr val="000000"/>
                </a:solidFill>
                <a:latin typeface="Arial"/>
              </a:rPr>
              <a:t> </a:t>
            </a:r>
            <a:br>
              <a:rPr sz="1600"/>
            </a:br>
            <a:r>
              <a:rPr b="0" i="1" lang="nl-NL" sz="2400" spc="-1" strike="noStrike">
                <a:solidFill>
                  <a:srgbClr val="000000"/>
                </a:solidFill>
                <a:latin typeface="Arial"/>
              </a:rPr>
              <a:t>Jackson – Perraudin - Saporta</a:t>
            </a:r>
            <a:endParaRPr b="1" lang="en-US" sz="2400" spc="-1" strike="noStrike">
              <a:solidFill>
                <a:srgbClr val="000000"/>
              </a:solidFill>
              <a:latin typeface="Arial"/>
            </a:endParaRPr>
          </a:p>
        </p:txBody>
      </p:sp>
      <p:sp>
        <p:nvSpPr>
          <p:cNvPr id="49" name="PlaceHolder 2"/>
          <p:cNvSpPr>
            <a:spLocks noGrp="1"/>
          </p:cNvSpPr>
          <p:nvPr>
            <p:ph/>
          </p:nvPr>
        </p:nvSpPr>
        <p:spPr>
          <a:xfrm>
            <a:off x="533160" y="4038480"/>
            <a:ext cx="5810040" cy="4648320"/>
          </a:xfrm>
          <a:prstGeom prst="rect">
            <a:avLst/>
          </a:prstGeom>
          <a:noFill/>
          <a:ln w="0">
            <a:noFill/>
          </a:ln>
        </p:spPr>
        <p:txBody>
          <a:bodyPr lIns="90000" rIns="90000" tIns="46800" bIns="46800" anchor="t">
            <a:normAutofit/>
          </a:bodyPr>
          <a:p>
            <a:pPr marL="343080" indent="0" algn="ctr">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Arial"/>
              </a:rPr>
              <a:t>Discussion</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by</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Arnoud W.A. Boot</a:t>
            </a:r>
            <a:endParaRPr b="0" lang="en-US" sz="2800" spc="-1" strike="noStrike">
              <a:solidFill>
                <a:srgbClr val="000000"/>
              </a:solidFill>
              <a:latin typeface="Arial"/>
            </a:endParaRPr>
          </a:p>
          <a:p>
            <a:pPr marL="343080" indent="0" algn="ctr">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Arial"/>
              </a:rPr>
              <a:t>University of Amsterdam and CEPR</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6DADE09-C84E-4377-9FEA-71AE3FCEE3EC}"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14440" y="65988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Message of the paper</a:t>
            </a:r>
            <a:endParaRPr b="1" lang="en-US" sz="3200" spc="-1" strike="noStrike">
              <a:solidFill>
                <a:srgbClr val="000000"/>
              </a:solidFill>
              <a:latin typeface="Arial"/>
            </a:endParaRPr>
          </a:p>
        </p:txBody>
      </p:sp>
      <p:sp>
        <p:nvSpPr>
          <p:cNvPr id="51" name="PlaceHolder 2"/>
          <p:cNvSpPr>
            <a:spLocks noGrp="1"/>
          </p:cNvSpPr>
          <p:nvPr>
            <p:ph/>
          </p:nvPr>
        </p:nvSpPr>
        <p:spPr>
          <a:xfrm>
            <a:off x="514440" y="2476440"/>
            <a:ext cx="5829120" cy="6329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988 Basel accord minimum capital levels facilitate 99%-99.9% one-year survival probability of representative ban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anks choose capital levels significantly higher than minimum standards</a:t>
            </a:r>
            <a:endParaRPr b="0" lang="en-US" sz="2400" spc="-1" strike="noStrike">
              <a:solidFill>
                <a:srgbClr val="000000"/>
              </a:solidFill>
              <a:latin typeface="Arial"/>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uggestive evidence on importance of sufficient bank capital for access to modern banking activiti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nce, Basel II should not increase capital requirements on averag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3FEC774-6090-4BCD-A40C-1C3199CFFB3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14440" y="65988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Remarks</a:t>
            </a:r>
            <a:endParaRPr b="1" lang="en-US" sz="3200" spc="-1" strike="noStrike">
              <a:solidFill>
                <a:srgbClr val="000000"/>
              </a:solidFill>
              <a:latin typeface="Arial"/>
            </a:endParaRPr>
          </a:p>
        </p:txBody>
      </p:sp>
      <p:sp>
        <p:nvSpPr>
          <p:cNvPr id="53" name="PlaceHolder 2"/>
          <p:cNvSpPr>
            <a:spLocks noGrp="1"/>
          </p:cNvSpPr>
          <p:nvPr>
            <p:ph/>
          </p:nvPr>
        </p:nvSpPr>
        <p:spPr>
          <a:xfrm>
            <a:off x="533160" y="2476440"/>
            <a:ext cx="5810040" cy="605808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per gets to very precise numbers, but approach is stylized</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presentative bank</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ll-diversified loan portfolio</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capitalization is possible</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o off-balance sheet activity (e.g. Hedging!)</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ystematic factors?</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nly credit risk</a:t>
            </a:r>
            <a:endParaRPr b="0" lang="en-US" sz="2400" spc="-1" strike="noStrike">
              <a:solidFill>
                <a:srgbClr val="000000"/>
              </a:solidFill>
              <a:latin typeface="Arial"/>
            </a:endParaRPr>
          </a:p>
          <a:p>
            <a:pPr lvl="1" marL="876240" indent="-419040">
              <a:lnSpc>
                <a:spcPct val="9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Problematic where actual bank capital is used</a:t>
            </a:r>
            <a:endParaRPr b="0" lang="en-US" sz="22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ut some more generality because paper focuses on deterioration in credit quality rather than just loan defaults</a:t>
            </a: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20BF1EB-29B3-4938-98C1-C0F4EEF7B3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14440" y="65988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General Comments</a:t>
            </a:r>
            <a:endParaRPr b="1" lang="en-US" sz="3200" spc="-1" strike="noStrike">
              <a:solidFill>
                <a:srgbClr val="000000"/>
              </a:solidFill>
              <a:latin typeface="Arial"/>
            </a:endParaRPr>
          </a:p>
        </p:txBody>
      </p:sp>
      <p:sp>
        <p:nvSpPr>
          <p:cNvPr id="55" name="PlaceHolder 2"/>
          <p:cNvSpPr>
            <a:spLocks noGrp="1"/>
          </p:cNvSpPr>
          <p:nvPr>
            <p:ph/>
          </p:nvPr>
        </p:nvSpPr>
        <p:spPr>
          <a:xfrm>
            <a:off x="514440" y="2476440"/>
            <a:ext cx="5829120" cy="63295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Focus is on adequacy of capital in the system, and need to understand the incentives of the banks themselv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uld banks </a:t>
            </a:r>
            <a:r>
              <a:rPr b="0" i="1" lang="nl-NL" sz="2400" spc="-1" strike="noStrike">
                <a:solidFill>
                  <a:srgbClr val="000000"/>
                </a:solidFill>
                <a:latin typeface="Arial"/>
              </a:rPr>
              <a:t>voluntarily </a:t>
            </a:r>
            <a:r>
              <a:rPr b="0" lang="nl-NL" sz="2400" spc="-1" strike="noStrike">
                <a:solidFill>
                  <a:srgbClr val="000000"/>
                </a:solidFill>
                <a:latin typeface="Arial"/>
              </a:rPr>
              <a:t>choose to have more capital than regulatory standard?</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oes competitive environment allow for binding capital requiremen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F125B0E-7589-49C1-8E64-8720D67164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14440" y="65988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Interesting issue</a:t>
            </a:r>
            <a:endParaRPr b="1" lang="en-US" sz="3200" spc="-1" strike="noStrike">
              <a:solidFill>
                <a:srgbClr val="000000"/>
              </a:solidFill>
              <a:latin typeface="Arial"/>
            </a:endParaRPr>
          </a:p>
        </p:txBody>
      </p:sp>
      <p:sp>
        <p:nvSpPr>
          <p:cNvPr id="57" name="PlaceHolder 2"/>
          <p:cNvSpPr>
            <a:spLocks noGrp="1"/>
          </p:cNvSpPr>
          <p:nvPr>
            <p:ph/>
          </p:nvPr>
        </p:nvSpPr>
        <p:spPr>
          <a:xfrm>
            <a:off x="514440" y="2476440"/>
            <a:ext cx="5829120" cy="6329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hat is a bank’s incentive to be well capitaliz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On this issue paper becomes suggestive</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dequate capitalization needed for passing regulatory threshold in bad tim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r is it needed to be a viable player in the indust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nd... is capital really (that) expensiv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07FC66B-5F57-4B00-8E1B-8BB02AEBA4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14440" y="65988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Conclusions</a:t>
            </a:r>
            <a:endParaRPr b="1" lang="en-US" sz="3200" spc="-1" strike="noStrike">
              <a:solidFill>
                <a:srgbClr val="000000"/>
              </a:solidFill>
              <a:latin typeface="Arial"/>
            </a:endParaRPr>
          </a:p>
        </p:txBody>
      </p:sp>
      <p:sp>
        <p:nvSpPr>
          <p:cNvPr id="59" name="PlaceHolder 2"/>
          <p:cNvSpPr>
            <a:spLocks noGrp="1"/>
          </p:cNvSpPr>
          <p:nvPr>
            <p:ph/>
          </p:nvPr>
        </p:nvSpPr>
        <p:spPr>
          <a:xfrm>
            <a:off x="514440" y="2476440"/>
            <a:ext cx="5829120" cy="63295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umerical outcomes robu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Understanding bank incentives is ke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sson for Basel II: no (excessive) fine-tuning?</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32C967B-DD5C-4045-864B-048BC459C132}"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09:14:16Z</dcterms:created>
  <dc:creator>Meulepas</dc:creator>
  <dc:description/>
  <dc:language>en-US</dc:language>
  <cp:lastModifiedBy>Meulepas</cp:lastModifiedBy>
  <dcterms:modified xsi:type="dcterms:W3CDTF">2002-06-13T11:03:57Z</dcterms:modified>
  <cp:revision>26</cp:revision>
  <dc:subject/>
  <dc:title>Executive compensation  en  corporate governance</dc:title>
</cp:coreProperties>
</file>