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6858000" cy="9907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2241720" y="685440"/>
            <a:ext cx="237456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1359C-A379-420D-83FF-7D44C735A6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2241720" y="685800"/>
            <a:ext cx="2374560" cy="3429000"/>
          </a:xfrm>
          <a:prstGeom prst="rect">
            <a:avLst/>
          </a:prstGeom>
          <a:ln w="0">
            <a:noFill/>
          </a:ln>
        </p:spPr>
      </p:sp>
      <p:sp>
        <p:nvSpPr>
          <p:cNvPr id="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in mind that in good macro state talented bank does only have good borrowers which can all borrow under commitment. Bad bank would be identified as untalented if it denied cred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1CA13F-DECE-4FC5-8FA4-8D0EB86FF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65988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514440" y="2476440"/>
            <a:ext cx="5829120" cy="3018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514440" y="5782680"/>
            <a:ext cx="5829120" cy="3018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A2628-DDA5-4514-AC47-B7C724A03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65988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514440" y="2476440"/>
            <a:ext cx="2844360" cy="3018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3501360" y="2476440"/>
            <a:ext cx="2844360" cy="3018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514440" y="5782680"/>
            <a:ext cx="2844360" cy="3018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3501360" y="5782680"/>
            <a:ext cx="2844360" cy="3018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3E712-986E-4C36-A040-AE0AE05025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65988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514440" y="2476440"/>
            <a:ext cx="1876680" cy="3018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2485440" y="2476440"/>
            <a:ext cx="1876680" cy="3018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4456080" y="2476440"/>
            <a:ext cx="1876680" cy="3018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514440" y="5782680"/>
            <a:ext cx="1876680" cy="3018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2485440" y="5782680"/>
            <a:ext cx="1876680" cy="3018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4456080" y="5782680"/>
            <a:ext cx="1876680" cy="3018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D51983-85B0-4020-9F24-FC8D7F153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65988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type="subTitle"/>
          </p:nvPr>
        </p:nvSpPr>
        <p:spPr>
          <a:xfrm>
            <a:off x="514440" y="2476440"/>
            <a:ext cx="5829120" cy="6329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6E81B-3796-4CF3-BDB6-D41E04901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65988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514440" y="2476440"/>
            <a:ext cx="5829120" cy="63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ADDD0-5CCB-4DEB-85C3-265C6DE38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65988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514440" y="2476440"/>
            <a:ext cx="2844360" cy="63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3501360" y="2476440"/>
            <a:ext cx="2844360" cy="63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2E31E-BBFD-489F-8D4E-15CA84A0C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65988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91504-971C-440E-A505-BCF6C5435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659880"/>
            <a:ext cx="5829120" cy="7655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AD5EF-EEC2-47E3-B059-CA127B6BF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65988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p:nvPr>
        </p:nvSpPr>
        <p:spPr>
          <a:xfrm>
            <a:off x="514440" y="2476440"/>
            <a:ext cx="2844360" cy="3018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3501360" y="2476440"/>
            <a:ext cx="2844360" cy="63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514440" y="5782680"/>
            <a:ext cx="2844360" cy="3018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3828D-2D04-47F4-8217-7C5FF9C32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65988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514440" y="2476440"/>
            <a:ext cx="2844360" cy="63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3501360" y="2476440"/>
            <a:ext cx="2844360" cy="3018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3501360" y="5782680"/>
            <a:ext cx="2844360" cy="3018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E6CA4-D5F5-4D69-8442-93FCA1CF7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65988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514440" y="2476440"/>
            <a:ext cx="2844360" cy="3018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3501360" y="2476440"/>
            <a:ext cx="2844360" cy="3018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514440" y="5782680"/>
            <a:ext cx="5829120" cy="3018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8C03A-6C43-4FFA-9F75-94CBA2983E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65988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514440" y="2476440"/>
            <a:ext cx="5829120" cy="6329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514080" y="9024480"/>
            <a:ext cx="1428840" cy="660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133360" y="9024480"/>
            <a:ext cx="2514600" cy="660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footer&gt;</a:t>
            </a:r>
            <a:r>
              <a:rPr b="0" lang="nl-NL" sz="1200" spc="-1" strike="noStrike">
                <a:solidFill>
                  <a:srgbClr val="000000"/>
                </a:solidFill>
                <a:latin typeface="Arial"/>
              </a:rPr>
              <a:t>Discussion of Jackson, Perraudin, Saporta by A. Boot </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Basel II</a:t>
            </a:r>
            <a:r>
              <a:rPr b="0" lang="nl-NL" sz="1200" spc="-1" strike="noStrike">
                <a:solidFill>
                  <a:srgbClr val="000000"/>
                </a:solidFill>
                <a:latin typeface="Arial"/>
              </a:rPr>
              <a:t> - Basel, May 2002</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800240" y="8991720"/>
            <a:ext cx="1428840" cy="660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E284E-C9FC-4FEE-973E-12ACC6A1C14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14440" y="609480"/>
            <a:ext cx="573408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t>
            </a:r>
            <a:r>
              <a:rPr b="1" lang="nl-NL" sz="2400" spc="-1" strike="noStrike">
                <a:solidFill>
                  <a:srgbClr val="000000"/>
                </a:solidFill>
                <a:latin typeface="Arial"/>
              </a:rPr>
              <a:t>Regulatory and ‘economic’ solvency standards for internationally active banks”</a:t>
            </a:r>
            <a:br>
              <a:rPr sz="2400"/>
            </a:br>
            <a:br>
              <a:rPr sz="2400"/>
            </a:br>
            <a:r>
              <a:rPr b="0" i="1" lang="nl-NL" sz="2400" spc="-1" strike="noStrike">
                <a:solidFill>
                  <a:srgbClr val="000000"/>
                </a:solidFill>
                <a:latin typeface="Arial"/>
              </a:rPr>
              <a:t>by</a:t>
            </a:r>
            <a:br>
              <a:rPr sz="2400"/>
            </a:br>
            <a:r>
              <a:rPr b="0" i="1" lang="nl-NL" sz="1600" spc="-1" strike="noStrike">
                <a:solidFill>
                  <a:srgbClr val="000000"/>
                </a:solidFill>
                <a:latin typeface="Arial"/>
              </a:rPr>
              <a:t> </a:t>
            </a:r>
            <a:br>
              <a:rPr sz="1600"/>
            </a:br>
            <a:r>
              <a:rPr b="0" i="1" lang="nl-NL" sz="2400" spc="-1" strike="noStrike">
                <a:solidFill>
                  <a:srgbClr val="000000"/>
                </a:solidFill>
                <a:latin typeface="Arial"/>
              </a:rPr>
              <a:t>Jackson – Perraudin - Saporta</a:t>
            </a:r>
            <a:endParaRPr b="1" lang="en-US" sz="2400" spc="-1" strike="noStrike">
              <a:solidFill>
                <a:srgbClr val="000000"/>
              </a:solidFill>
              <a:latin typeface="Arial"/>
            </a:endParaRPr>
          </a:p>
        </p:txBody>
      </p:sp>
      <p:sp>
        <p:nvSpPr>
          <p:cNvPr id="49" name="PlaceHolder 2"/>
          <p:cNvSpPr>
            <a:spLocks noGrp="1"/>
          </p:cNvSpPr>
          <p:nvPr>
            <p:ph/>
          </p:nvPr>
        </p:nvSpPr>
        <p:spPr>
          <a:xfrm>
            <a:off x="533160" y="4038480"/>
            <a:ext cx="5810040" cy="4648320"/>
          </a:xfrm>
          <a:prstGeom prst="rect">
            <a:avLst/>
          </a:prstGeom>
          <a:noFill/>
          <a:ln w="0">
            <a:noFill/>
          </a:ln>
        </p:spPr>
        <p:txBody>
          <a:bodyPr lIns="90000" rIns="90000" tIns="46800" bIns="46800" anchor="t">
            <a:normAutofit/>
          </a:bodyPr>
          <a:p>
            <a:pPr marL="343080" indent="0" algn="ctr">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Arial"/>
              </a:rPr>
              <a:t>Discussion</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by</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Arnoud W.A. Boot</a:t>
            </a:r>
            <a:endParaRPr b="0" lang="en-US" sz="2800" spc="-1" strike="noStrike">
              <a:solidFill>
                <a:srgbClr val="000000"/>
              </a:solidFill>
              <a:latin typeface="Arial"/>
            </a:endParaRPr>
          </a:p>
          <a:p>
            <a:pPr marL="343080" indent="0" algn="ctr">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Arial"/>
              </a:rPr>
              <a:t>University of Amsterdam and CEPR</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07559A4-BBB4-4F3A-9D44-2001BF6CBFE9}"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14440" y="65988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Message of the paper</a:t>
            </a:r>
            <a:endParaRPr b="1" lang="en-US" sz="3200" spc="-1" strike="noStrike">
              <a:solidFill>
                <a:srgbClr val="000000"/>
              </a:solidFill>
              <a:latin typeface="Arial"/>
            </a:endParaRPr>
          </a:p>
        </p:txBody>
      </p:sp>
      <p:sp>
        <p:nvSpPr>
          <p:cNvPr id="51" name="PlaceHolder 2"/>
          <p:cNvSpPr>
            <a:spLocks noGrp="1"/>
          </p:cNvSpPr>
          <p:nvPr>
            <p:ph/>
          </p:nvPr>
        </p:nvSpPr>
        <p:spPr>
          <a:xfrm>
            <a:off x="514440" y="2476440"/>
            <a:ext cx="5829120" cy="6329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988 Basel accord minimum capital levels facilitate 99%-99.9% one-year survival probability of representative ban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anks choose capital levels significantly higher than minimum standards</a:t>
            </a:r>
            <a:endParaRPr b="0" lang="en-US" sz="2400" spc="-1" strike="noStrike">
              <a:solidFill>
                <a:srgbClr val="000000"/>
              </a:solidFill>
              <a:latin typeface="Arial"/>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uggestive evidence on importance of sufficient bank capital for access to modern banking activiti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nce, Basel II should not increase capital requirements on averag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1C190E9-D5FE-40F1-9CAA-2A7E747D61A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14440" y="65988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Remarks</a:t>
            </a:r>
            <a:endParaRPr b="1" lang="en-US" sz="3200" spc="-1" strike="noStrike">
              <a:solidFill>
                <a:srgbClr val="000000"/>
              </a:solidFill>
              <a:latin typeface="Arial"/>
            </a:endParaRPr>
          </a:p>
        </p:txBody>
      </p:sp>
      <p:sp>
        <p:nvSpPr>
          <p:cNvPr id="53" name="PlaceHolder 2"/>
          <p:cNvSpPr>
            <a:spLocks noGrp="1"/>
          </p:cNvSpPr>
          <p:nvPr>
            <p:ph/>
          </p:nvPr>
        </p:nvSpPr>
        <p:spPr>
          <a:xfrm>
            <a:off x="533160" y="2476440"/>
            <a:ext cx="5810040" cy="605808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per gets to very precise numbers, but approach is stylized</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presentative bank</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ll-diversified loan portfolio</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capitalization is possible</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o off-balance sheet activity (e.g. Hedging!)</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ystematic factors?</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nly credit risk</a:t>
            </a:r>
            <a:endParaRPr b="0" lang="en-US" sz="2400" spc="-1" strike="noStrike">
              <a:solidFill>
                <a:srgbClr val="000000"/>
              </a:solidFill>
              <a:latin typeface="Arial"/>
            </a:endParaRPr>
          </a:p>
          <a:p>
            <a:pPr lvl="1" marL="876240" indent="-419040">
              <a:lnSpc>
                <a:spcPct val="9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Problematic where actual bank capital is used</a:t>
            </a:r>
            <a:endParaRPr b="0" lang="en-US" sz="22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ut some more generality because paper focuses on deterioration in credit quality rather than just loan defaults</a:t>
            </a: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43DFA60-193F-431E-BF41-92E3EA098D8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14440" y="65988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General Comments</a:t>
            </a:r>
            <a:endParaRPr b="1" lang="en-US" sz="3200" spc="-1" strike="noStrike">
              <a:solidFill>
                <a:srgbClr val="000000"/>
              </a:solidFill>
              <a:latin typeface="Arial"/>
            </a:endParaRPr>
          </a:p>
        </p:txBody>
      </p:sp>
      <p:sp>
        <p:nvSpPr>
          <p:cNvPr id="55" name="PlaceHolder 2"/>
          <p:cNvSpPr>
            <a:spLocks noGrp="1"/>
          </p:cNvSpPr>
          <p:nvPr>
            <p:ph/>
          </p:nvPr>
        </p:nvSpPr>
        <p:spPr>
          <a:xfrm>
            <a:off x="514440" y="2476440"/>
            <a:ext cx="5829120" cy="63295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Focus is on adequacy of capital in the system, and need to understand the incentives of the banks themselv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uld banks </a:t>
            </a:r>
            <a:r>
              <a:rPr b="0" i="1" lang="nl-NL" sz="2400" spc="-1" strike="noStrike">
                <a:solidFill>
                  <a:srgbClr val="000000"/>
                </a:solidFill>
                <a:latin typeface="Arial"/>
              </a:rPr>
              <a:t>voluntarily </a:t>
            </a:r>
            <a:r>
              <a:rPr b="0" lang="nl-NL" sz="2400" spc="-1" strike="noStrike">
                <a:solidFill>
                  <a:srgbClr val="000000"/>
                </a:solidFill>
                <a:latin typeface="Arial"/>
              </a:rPr>
              <a:t>choose to have more capital than regulatory standard?</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oes competitive environment allow for binding capital requiremen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D55F9D0-46AC-43EC-BB35-67A642C94D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14440" y="65988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Interesting issue</a:t>
            </a:r>
            <a:endParaRPr b="1" lang="en-US" sz="3200" spc="-1" strike="noStrike">
              <a:solidFill>
                <a:srgbClr val="000000"/>
              </a:solidFill>
              <a:latin typeface="Arial"/>
            </a:endParaRPr>
          </a:p>
        </p:txBody>
      </p:sp>
      <p:sp>
        <p:nvSpPr>
          <p:cNvPr id="57" name="PlaceHolder 2"/>
          <p:cNvSpPr>
            <a:spLocks noGrp="1"/>
          </p:cNvSpPr>
          <p:nvPr>
            <p:ph/>
          </p:nvPr>
        </p:nvSpPr>
        <p:spPr>
          <a:xfrm>
            <a:off x="514440" y="2476440"/>
            <a:ext cx="5829120" cy="6329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hat is a bank’s incentive to be well capitaliz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On this issue paper becomes suggestive</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dequate capitalization needed for passing regulatory threshold in bad tim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r is it needed to be a viable player in the indust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nd... is capital really (that) expensiv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CB34088-AD59-42F7-8D41-EBE9A511A2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14440" y="65988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Conclusions</a:t>
            </a:r>
            <a:endParaRPr b="1" lang="en-US" sz="3200" spc="-1" strike="noStrike">
              <a:solidFill>
                <a:srgbClr val="000000"/>
              </a:solidFill>
              <a:latin typeface="Arial"/>
            </a:endParaRPr>
          </a:p>
        </p:txBody>
      </p:sp>
      <p:sp>
        <p:nvSpPr>
          <p:cNvPr id="59" name="PlaceHolder 2"/>
          <p:cNvSpPr>
            <a:spLocks noGrp="1"/>
          </p:cNvSpPr>
          <p:nvPr>
            <p:ph/>
          </p:nvPr>
        </p:nvSpPr>
        <p:spPr>
          <a:xfrm>
            <a:off x="514440" y="2476440"/>
            <a:ext cx="5829120" cy="63295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umerical outcomes robu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Understanding bank incentives is ke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sson for Basel II: no (excessive) fine-tuning?</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0917241-2878-44B1-A2AC-1B0B4B43ACFE}"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09:14:16Z</dcterms:created>
  <dc:creator>Meulepas</dc:creator>
  <dc:description/>
  <dc:language>en-US</dc:language>
  <cp:lastModifiedBy>Meulepas</cp:lastModifiedBy>
  <dcterms:modified xsi:type="dcterms:W3CDTF">2002-06-13T11:03:57Z</dcterms:modified>
  <cp:revision>26</cp:revision>
  <dc:subject/>
  <dc:title>Executive compensation  en  corporate governance</dc:title>
</cp:coreProperties>
</file>